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.png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3112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4697280" y="6561000"/>
          <a:ext cx="314280" cy="28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97280" y="6561000"/>
                    <a:ext cx="314280" cy="2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0" y="6578640"/>
            <a:ext cx="368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8347-9340-4340-9AFD-6A5CBD9EF5B7}" type="slidenum">
              <a:rPr b="1" lang="en-US" sz="1400" spc="-1" strike="noStrike">
                <a:solidFill>
                  <a:srgbClr val="008000"/>
                </a:solidFill>
                <a:latin typeface="Browallia New"/>
                <a:ea typeface="Browalli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043520" y="6570720"/>
            <a:ext cx="5018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400" spc="-1" strike="noStrike">
                <a:solidFill>
                  <a:srgbClr val="99ccff"/>
                </a:solidFill>
                <a:latin typeface="Browallia New"/>
                <a:cs typeface="Browallia New"/>
              </a:rPr>
              <a:t>ฝ่ายบริหารข้อมูล </a:t>
            </a:r>
            <a:r>
              <a:rPr b="1" i="1" lang="en-US" sz="1400" spc="-1" strike="noStrike">
                <a:solidFill>
                  <a:srgbClr val="99ccff"/>
                </a:solidFill>
                <a:latin typeface="Browallia New"/>
                <a:ea typeface="Browallia New"/>
              </a:rPr>
              <a:t>Data Management Department   http://www.bot.or.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1206360" y="6656400"/>
            <a:ext cx="684360" cy="171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419040" y="6656400"/>
            <a:ext cx="684360" cy="171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9144000" cy="72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28440" y="14400"/>
          <a:ext cx="2051280" cy="61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440" y="14400"/>
                    <a:ext cx="2051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" name="" descr=""/>
          <p:cNvPicPr/>
          <p:nvPr/>
        </p:nvPicPr>
        <p:blipFill>
          <a:blip r:embed="rId8"/>
          <a:stretch/>
        </p:blipFill>
        <p:spPr>
          <a:xfrm>
            <a:off x="4457880" y="6632640"/>
            <a:ext cx="180720" cy="18252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0" y="723960"/>
            <a:ext cx="914400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owallia Ne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owallia Ne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Browallia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owallia Ne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Browallia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owallia Ne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Browallia Ne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owallia Ne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owallia Ne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owallia Ne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C Half Banner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44920" y="393840"/>
            <a:ext cx="4648320" cy="3395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8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i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52200"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wallia New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  <a:p>
            <a:pPr lvl="1" marL="4068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owallia Ne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2" marL="813600" algn="ctr">
              <a:spcBef>
                <a:spcPts val="700"/>
              </a:spcBef>
              <a:buClr>
                <a:srgbClr val="000000"/>
              </a:buClr>
              <a:buFont typeface="Browallia New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owallia Ne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3" marL="1220400" algn="ctr">
              <a:spcBef>
                <a:spcPts val="700"/>
              </a:spcBef>
              <a:buClr>
                <a:srgbClr val="000000"/>
              </a:buClr>
              <a:buFont typeface="Browallia Ne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owallia Ne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4" marL="1627560" algn="ctr">
              <a:spcBef>
                <a:spcPts val="700"/>
              </a:spcBef>
              <a:buClr>
                <a:srgbClr val="000000"/>
              </a:buClr>
              <a:buFont typeface="Browallia Ne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owallia Ne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5" marL="1627560">
              <a:spcBef>
                <a:spcPts val="700"/>
              </a:spcBef>
              <a:buClr>
                <a:srgbClr val="000000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owallia Ne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6" marL="1627560">
              <a:spcBef>
                <a:spcPts val="700"/>
              </a:spcBef>
              <a:buClr>
                <a:srgbClr val="000000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owallia Ne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3360" y="3330720"/>
            <a:ext cx="9010800" cy="33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6699"/>
                </a:solidFill>
                <a:latin typeface="Browallia New"/>
                <a:cs typeface="Browallia New"/>
              </a:rPr>
              <a:t>ช่องทางการจัดส่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6699"/>
                </a:solidFill>
                <a:latin typeface="Browallia New"/>
                <a:cs typeface="Browallia New"/>
              </a:rPr>
              <a:t>ข้อมูลเร็วการซื้อขายเงินตราต่างประเทศรายวั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9900cc"/>
                </a:solidFill>
                <a:latin typeface="Browallia New"/>
                <a:cs typeface="Browallia New"/>
              </a:rPr>
              <a:t>วันที่ </a:t>
            </a:r>
            <a:r>
              <a:rPr b="1" lang="th-TH" sz="2400" spc="-1" strike="noStrike">
                <a:solidFill>
                  <a:srgbClr val="9900cc"/>
                </a:solidFill>
                <a:latin typeface="Browallia New"/>
                <a:ea typeface="Browallia New"/>
              </a:rPr>
              <a:t>29 </a:t>
            </a:r>
            <a:r>
              <a:rPr b="1" lang="th-TH" sz="2400" spc="-1" strike="noStrike">
                <a:solidFill>
                  <a:srgbClr val="9900cc"/>
                </a:solidFill>
                <a:latin typeface="Browallia New"/>
                <a:cs typeface="Browallia New"/>
              </a:rPr>
              <a:t>พฤษภาคม </a:t>
            </a:r>
            <a:r>
              <a:rPr b="1" lang="th-TH" sz="2400" spc="-1" strike="noStrike">
                <a:solidFill>
                  <a:srgbClr val="9900cc"/>
                </a:solidFill>
                <a:latin typeface="Browallia New"/>
                <a:ea typeface="Browallia New"/>
              </a:rPr>
              <a:t>25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305840" y="12600"/>
          <a:ext cx="182556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5840" y="12600"/>
                    <a:ext cx="18255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l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35240" y="85680"/>
            <a:ext cx="69087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marL="5868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ff"/>
                </a:solidFill>
                <a:latin typeface="Cordia New"/>
                <a:cs typeface="Cordia New"/>
              </a:rPr>
              <a:t>การส่งข้อมูลเร็วอื่น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7412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อให้สถาบันการเงินส่งข้อมูลเร็วตาราง 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7</a:t>
            </a:r>
            <a:r>
              <a:rPr b="1" i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,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21 – 27</a:t>
            </a:r>
            <a:r>
              <a:rPr b="1" i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A, 31 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ที่ </a:t>
            </a:r>
            <a:r>
              <a:rPr b="1" i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DA Extranet/Internet 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ามช่องทางที่ท่านแจ้งเลือก ตั้งแต่วันที่ 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3 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ันยายน 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2550 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็นต้นไ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00160" y="1965240"/>
          <a:ext cx="8496000" cy="3746520"/>
        </p:xfrm>
        <a:graphic>
          <a:graphicData uri="http://schemas.openxmlformats.org/drawingml/2006/table">
            <a:tbl>
              <a:tblPr/>
              <a:tblGrid>
                <a:gridCol w="1272960"/>
                <a:gridCol w="72230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าราง </a:t>
                      </a: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Weekly Outstanding Balances of Newly Opened NRBAs 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/ 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บัญชี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NRBA  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ที่เปิดบัญชีใหม่ประจำสัปดาห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าราง </a:t>
                      </a: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5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Outstanding Balances of All SNAs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/ 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ยอดคงค้างของบัญชี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SNS 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ทุกบัญช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าราง </a:t>
                      </a: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6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Outstanding Balances of  SNAs From Baht  200  Million/ 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ยอดคงค้างของบัญชี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SNS 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จำนวนเงินตั้งแต่ 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200 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ล้านบาทขึ้นไ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าราง </a:t>
                      </a: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7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Outstanding Balances of Newly Opened SNAs During the Week / 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บัญชี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SNS 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ที่เปิดบัญชีใหม่ประจำสัปดาห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าราง </a:t>
                      </a: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Interbank and Interfinance Activities/ 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รายงานการกู้ยืมเงินบาทระหว่างธนาคารและสถาบันการเงินในประเท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l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22720" y="0"/>
            <a:ext cx="59212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marL="5868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ff"/>
                </a:solidFill>
                <a:latin typeface="Cordia New"/>
                <a:cs typeface="Cordia New"/>
              </a:rPr>
              <a:t>แผนดำเนินการ</a:t>
            </a:r>
            <a:r>
              <a:rPr b="1" i="1" lang="en-US" sz="4000" spc="-1" strike="noStrike">
                <a:solidFill>
                  <a:srgbClr val="c0c0c0"/>
                </a:solidFill>
                <a:latin typeface="Arial"/>
                <a:ea typeface="Cordia Ne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876240"/>
          <a:ext cx="8339040" cy="5859360"/>
        </p:xfrm>
        <a:graphic>
          <a:graphicData uri="http://schemas.openxmlformats.org/drawingml/2006/table">
            <a:tbl>
              <a:tblPr/>
              <a:tblGrid>
                <a:gridCol w="2895480"/>
                <a:gridCol w="773280"/>
                <a:gridCol w="900000"/>
                <a:gridCol w="854280"/>
                <a:gridCol w="1066680"/>
                <a:gridCol w="184932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กิจกรร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มิ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ย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ก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ส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ก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ย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หมายเหต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1. 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ธปท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เผยแพร่เอกสารที่เกี่ยวข้อ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18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มิย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2. 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ธปท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แจ้งรายละเอียดการทดสอบ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IW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10-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ก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-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. 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สถาบันการเงินเลือกช่องทาง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DA Extranet 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หรือ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DA Interne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.1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แจ้งความประสงค์เลือกช่องทา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ภายใน ก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แจ้งที่ทีมสถิติตลาดการเงิ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.2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ส่งแบบฟอร์ม กรณีสมัครส่งข้อมูลทาง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DA Inter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ภายใน ก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ส่งแบบฟอร์มที่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DMS Ad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4. 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สถาบันการเงินส่งข้อมูลทดสอบ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IW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14-24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ส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5.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ข้อมูล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Data File (DF_FXP, DF_FXM, DF_FXU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เริ่มส่ง</a:t>
                      </a:r>
                      <a:br>
                        <a:rPr sz="1600"/>
                      </a:b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ก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ย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50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เป็นต้นไ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6 .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าราง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1 ,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าราง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-6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เดิ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ส่งคู่ขนาน 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 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เดือน ก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ย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-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พ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ย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2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7.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าราง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7, 21-27A, 31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ส่งตามช่องทาง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DA 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ที่ท่านเลือก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(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ข้อ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.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เริ่มส่งช่องทางใหม่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ก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ย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50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1" i="1" lang="th-TH" sz="16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เป็นต้นไ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l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35240" y="85680"/>
            <a:ext cx="69087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marL="5868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ff"/>
                </a:solidFill>
                <a:latin typeface="Cordia New"/>
                <a:cs typeface="Cordia New"/>
              </a:rPr>
              <a:t>ติดต่อสอบถา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7840" y="1066680"/>
          <a:ext cx="8813880" cy="5207040"/>
        </p:xfrm>
        <a:graphic>
          <a:graphicData uri="http://schemas.openxmlformats.org/drawingml/2006/table">
            <a:tbl>
              <a:tblPr/>
              <a:tblGrid>
                <a:gridCol w="3255840"/>
                <a:gridCol w="3781440"/>
                <a:gridCol w="1776600"/>
              </a:tblGrid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สอบถามเรื่องเนื้อหาข้อมูลได้ที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ccccff"/>
                      </a:solidFill>
                    </a:lnL>
                    <a:lnR w="28080">
                      <a:solidFill>
                        <a:srgbClr val="ccccff"/>
                      </a:solidFill>
                    </a:lnR>
                    <a:lnT w="28080">
                      <a:solidFill>
                        <a:srgbClr val="cccc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ุณรุจินี  สินมงคล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cccc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ทีมสถิติตลาดการเงิ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02-283-51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99ff"/>
                      </a:solidFill>
                    </a:lnL>
                    <a:lnR w="28080">
                      <a:solidFill>
                        <a:srgbClr val="cccc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ุณสมพิศ อมรวิริยะ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cccc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ทีมสถิติตลาดการเงิ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02-283-51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99ff"/>
                      </a:solidFill>
                    </a:lnL>
                    <a:lnR w="28080">
                      <a:solidFill>
                        <a:srgbClr val="cccc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ุณรจนา ซีประเสริ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cccc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3680">
                      <a:solidFill>
                        <a:srgbClr val="99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ส่วนระบบข้อมูลสถาบันการเงิ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3680">
                      <a:solidFill>
                        <a:srgbClr val="99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02-283-64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99ff"/>
                      </a:solidFill>
                    </a:lnL>
                    <a:lnR w="28080">
                      <a:solidFill>
                        <a:srgbClr val="cccc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noFill/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สอบถามการติดตั้งระบบและช่องทางส่งข้อมูลได้ที่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ccccff"/>
                      </a:solidFill>
                    </a:lnL>
                    <a:lnR w="28080">
                      <a:solidFill>
                        <a:srgbClr val="cccc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ุณวิเชียร ทันตศุภารักษ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cccc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3680">
                      <a:solidFill>
                        <a:srgbClr val="9999ff"/>
                      </a:solidFill>
                    </a:lnT>
                    <a:lnB w="13680">
                      <a:solidFill>
                        <a:srgbClr val="99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  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DMS ADM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3680">
                      <a:solidFill>
                        <a:srgbClr val="9999ff"/>
                      </a:solidFill>
                    </a:lnT>
                    <a:lnB w="13680">
                      <a:solidFill>
                        <a:srgbClr val="99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02-283-51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99ff"/>
                      </a:solidFill>
                    </a:lnL>
                    <a:lnR w="28080">
                      <a:solidFill>
                        <a:srgbClr val="cccc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ุณสมบัติ แสนบุต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cccc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3680">
                      <a:solidFill>
                        <a:srgbClr val="9999ff"/>
                      </a:solidFill>
                    </a:lnT>
                    <a:lnB w="13680">
                      <a:solidFill>
                        <a:srgbClr val="99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  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DMS ADM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3680">
                      <a:solidFill>
                        <a:srgbClr val="9999ff"/>
                      </a:solidFill>
                    </a:lnT>
                    <a:lnB w="13680">
                      <a:solidFill>
                        <a:srgbClr val="99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02-356-74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99ff"/>
                      </a:solidFill>
                    </a:lnL>
                    <a:lnR w="28080">
                      <a:solidFill>
                        <a:srgbClr val="cccc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ุณเอกชัย เลิศพนารักษ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cccc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3680">
                      <a:solidFill>
                        <a:srgbClr val="9999ff"/>
                      </a:solidFill>
                    </a:lnT>
                    <a:lnB w="2808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  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DMS ADM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3680">
                      <a:solidFill>
                        <a:srgbClr val="9999ff"/>
                      </a:solidFill>
                    </a:lnT>
                    <a:lnB w="28080">
                      <a:solidFill>
                        <a:srgbClr val="cc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02-283-51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99ff"/>
                      </a:solidFill>
                    </a:lnL>
                    <a:lnR w="28080">
                      <a:solidFill>
                        <a:srgbClr val="cccc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28080">
                      <a:solidFill>
                        <a:srgbClr val="ccc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l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22720" y="85680"/>
            <a:ext cx="59212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marL="5868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ff"/>
                </a:solidFill>
                <a:latin typeface="Cordia New"/>
                <a:ea typeface="Cordia New"/>
              </a:rPr>
              <a:t>      </a:t>
            </a:r>
            <a:r>
              <a:rPr b="1" lang="th-TH" sz="3600" spc="-1" strike="noStrike">
                <a:solidFill>
                  <a:srgbClr val="0000ff"/>
                </a:solidFill>
                <a:latin typeface="Cordia New"/>
                <a:cs typeface="Cordia New"/>
              </a:rPr>
              <a:t>หัวข้อการชี้แจ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33440" y="1496880"/>
            <a:ext cx="63756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288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ช่องทางการจัดส่งข้อมู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จัดการข้อมู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้อมูลรูปแบบใหม่ที่ต้องจัดส่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ส่งข้อมูลคู่ขนา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ส่งข้อมูลเร็วอื่น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ผนดำเนินก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22720" y="85680"/>
            <a:ext cx="59212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marL="5868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ff"/>
                </a:solidFill>
                <a:latin typeface="Cordia New"/>
                <a:ea typeface="Cordia New"/>
              </a:rPr>
              <a:t> </a:t>
            </a:r>
            <a:r>
              <a:rPr b="1" lang="th-TH" sz="3600" spc="-1" strike="noStrike">
                <a:solidFill>
                  <a:srgbClr val="0000ff"/>
                </a:solidFill>
                <a:latin typeface="Cordia New"/>
                <a:cs typeface="Cordia New"/>
              </a:rPr>
              <a:t>ช่องทางการจัดส่งข้อมู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55600" y="2170080"/>
            <a:ext cx="637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ห้สถาบันการเงินเลือกช่องทางการจัดส่งข้อมูล</a:t>
            </a:r>
            <a:r>
              <a:rPr b="1" i="1" lang="th-TH" sz="3600" spc="-1" strike="noStrike">
                <a:solidFill>
                  <a:srgbClr val="000000"/>
                </a:solidFill>
                <a:latin typeface="Arial"/>
                <a:cs typeface="Angsana New"/>
              </a:rPr>
              <a:t>อย่างใดอย่างหนึ่งตามความสมัครใ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663399"/>
                </a:solidFill>
                <a:latin typeface="Angsana New"/>
                <a:ea typeface="Angsana New"/>
              </a:rPr>
              <a:t>    </a:t>
            </a:r>
            <a:r>
              <a:rPr b="1" i="1" lang="en-US" sz="3600" spc="-1" strike="noStrike">
                <a:solidFill>
                  <a:srgbClr val="663399"/>
                </a:solidFill>
                <a:latin typeface="Angsana New"/>
                <a:ea typeface="Angsana New"/>
              </a:rPr>
              <a:t>*</a:t>
            </a:r>
            <a:r>
              <a:rPr b="1" i="1" lang="th-TH" sz="3600" spc="-1" strike="noStrike">
                <a:solidFill>
                  <a:srgbClr val="663399"/>
                </a:solidFill>
                <a:latin typeface="Angsana New"/>
                <a:cs typeface="Angsana New"/>
              </a:rPr>
              <a:t>ทาง</a:t>
            </a:r>
            <a:r>
              <a:rPr b="1" i="1" lang="en-US" sz="3600" spc="-1" strike="noStrike">
                <a:solidFill>
                  <a:srgbClr val="663399"/>
                </a:solidFill>
                <a:latin typeface="Angsana New"/>
                <a:ea typeface="Angsana New"/>
              </a:rPr>
              <a:t> </a:t>
            </a:r>
            <a:r>
              <a:rPr b="1" i="1" lang="en-US" sz="3600" spc="-1" strike="noStrike">
                <a:solidFill>
                  <a:srgbClr val="663399"/>
                </a:solidFill>
                <a:latin typeface="Angsana New"/>
                <a:ea typeface="Angsana New"/>
              </a:rPr>
              <a:t>DA Extrane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0000ff"/>
                </a:solidFill>
                <a:latin typeface="Angsana New"/>
                <a:ea typeface="Angsana New"/>
              </a:rPr>
              <a:t>* </a:t>
            </a:r>
            <a:r>
              <a:rPr b="1" i="1" lang="th-TH" sz="3600" spc="-1" strike="noStrike">
                <a:solidFill>
                  <a:srgbClr val="0000ff"/>
                </a:solidFill>
                <a:latin typeface="Angsana New"/>
                <a:cs typeface="Angsana New"/>
              </a:rPr>
              <a:t>ทาง </a:t>
            </a:r>
            <a:r>
              <a:rPr b="1" i="1" lang="en-US" sz="3600" spc="-1" strike="noStrike">
                <a:solidFill>
                  <a:srgbClr val="0000ff"/>
                </a:solidFill>
                <a:latin typeface="Angsana New"/>
                <a:ea typeface="Angsana New"/>
              </a:rPr>
              <a:t>DA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22720" y="85680"/>
            <a:ext cx="59212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marL="5868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ff"/>
                </a:solidFill>
                <a:latin typeface="Cordia New"/>
                <a:ea typeface="Cordia New"/>
              </a:rPr>
              <a:t>      </a:t>
            </a:r>
            <a:r>
              <a:rPr b="1" lang="th-TH" sz="3600" spc="-1" strike="noStrike">
                <a:solidFill>
                  <a:srgbClr val="0000ff"/>
                </a:solidFill>
                <a:latin typeface="Cordia New"/>
                <a:cs typeface="Cordia New"/>
              </a:rPr>
              <a:t>ช่องทางการจัดส่งข้อมู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279360" y="108252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* 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ส่งข้อมูลทาง </a:t>
            </a:r>
            <a:r>
              <a:rPr b="1" i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DA Extranet  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ความปลอดภัยสู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</a:t>
            </a:r>
            <a:r>
              <a:rPr b="0" i="1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-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ต้องมี </a:t>
            </a:r>
            <a:r>
              <a:rPr b="0" i="1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PC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ที่ติดตั้งโปรแกรมเพื่อเชื่อมต่อระบบ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</a:t>
            </a:r>
            <a:r>
              <a:rPr b="0" i="1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- 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ต้องมี </a:t>
            </a:r>
            <a:r>
              <a:rPr b="0" i="1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Smart Card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แสดงตัวในการเข้าใช้งานที่ระบ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- 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จัดทำข้อมูลเป็น </a:t>
            </a:r>
            <a:r>
              <a:rPr b="0" i="1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Data File (XML)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เท่านั้น และส่งข้อมูลโด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เลือกหัวข้อ </a:t>
            </a:r>
            <a:r>
              <a:rPr b="0" i="1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Submit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*  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ส่งข้อมูลทาง </a:t>
            </a:r>
            <a:r>
              <a:rPr b="1" i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DA Internet  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ช้งานง่าย และสะดว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</a:t>
            </a:r>
            <a:r>
              <a:rPr b="0" i="1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- 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มี </a:t>
            </a:r>
            <a:r>
              <a:rPr b="0" i="1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PC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ที่ใช้ต่อ </a:t>
            </a:r>
            <a:r>
              <a:rPr b="0" i="1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Internet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ได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- 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ผู้ส่งแต่ละคนจะมี </a:t>
            </a:r>
            <a:r>
              <a:rPr b="0" i="1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User ID/Password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สำหรับเข้าระบบ ก่อนส่งข้อมู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- 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จัดทำข้อมูลเป็น </a:t>
            </a:r>
            <a:r>
              <a:rPr b="0" i="1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Data File (XML)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เท่านั้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800" spc="-1" strike="noStrike">
                <a:solidFill>
                  <a:srgbClr val="ff0000"/>
                </a:solidFill>
                <a:latin typeface="Angsana New"/>
                <a:ea typeface="Angsana New"/>
              </a:rPr>
              <a:t>     </a:t>
            </a:r>
            <a:r>
              <a:rPr b="1" i="1" lang="th-TH" sz="2800" spc="-1" strike="noStrike">
                <a:solidFill>
                  <a:srgbClr val="ff0000"/>
                </a:solidFill>
                <a:latin typeface="Angsana New"/>
                <a:ea typeface="Angsana New"/>
              </a:rPr>
              <a:t>-  </a:t>
            </a:r>
            <a:r>
              <a:rPr b="1" i="1" lang="th-TH" sz="2800" spc="-1" strike="noStrike">
                <a:solidFill>
                  <a:srgbClr val="ff0000"/>
                </a:solidFill>
                <a:latin typeface="Angsana New"/>
                <a:cs typeface="Angsana New"/>
              </a:rPr>
              <a:t>เมื่อมีการเปลี่ยนแปลง </a:t>
            </a:r>
            <a:r>
              <a:rPr b="1" i="1" lang="en-US" sz="2800" spc="-1" strike="noStrike">
                <a:solidFill>
                  <a:srgbClr val="ff0000"/>
                </a:solidFill>
                <a:latin typeface="Angsana New"/>
                <a:ea typeface="Angsana New"/>
              </a:rPr>
              <a:t>Officer </a:t>
            </a:r>
            <a:r>
              <a:rPr b="1" i="1" lang="th-TH" sz="2800" spc="-1" strike="noStrike">
                <a:solidFill>
                  <a:srgbClr val="ff0000"/>
                </a:solidFill>
                <a:latin typeface="Angsana New"/>
                <a:cs typeface="Angsana New"/>
              </a:rPr>
              <a:t>ต้องแจ้งธปท</a:t>
            </a:r>
            <a:r>
              <a:rPr b="1" i="1" lang="th-TH" sz="2800" spc="-1" strike="noStrike">
                <a:solidFill>
                  <a:srgbClr val="ff0000"/>
                </a:solidFill>
                <a:latin typeface="Angsana New"/>
                <a:ea typeface="Angsana New"/>
              </a:rPr>
              <a:t>.</a:t>
            </a:r>
            <a:r>
              <a:rPr b="1" i="1" lang="th-TH" sz="2800" spc="-1" strike="noStrike">
                <a:solidFill>
                  <a:srgbClr val="ff0000"/>
                </a:solidFill>
                <a:latin typeface="Angsana New"/>
                <a:cs typeface="Angsana New"/>
              </a:rPr>
              <a:t>ทันท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22720" y="85680"/>
            <a:ext cx="59212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marL="5868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ff"/>
                </a:solidFill>
                <a:latin typeface="Cordia New"/>
                <a:ea typeface="Cordia New"/>
              </a:rPr>
              <a:t>      </a:t>
            </a:r>
            <a:r>
              <a:rPr b="1" lang="th-TH" sz="3600" spc="-1" strike="noStrike">
                <a:solidFill>
                  <a:srgbClr val="0000ff"/>
                </a:solidFill>
                <a:latin typeface="Cordia New"/>
                <a:cs typeface="Cordia New"/>
              </a:rPr>
              <a:t>ช่องทางการจัดส่งข้อมู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763560" y="1108080"/>
            <a:ext cx="96948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66ff99"/>
                </a:solidFill>
                <a:latin typeface="Angsana New"/>
                <a:ea typeface="Angsana New"/>
              </a:rPr>
              <a:t> 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* 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รณีเลือกส่งข้อมูลทาง </a:t>
            </a:r>
            <a:r>
              <a:rPr b="1" i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DA Internet 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</a:t>
            </a:r>
            <a:r>
              <a:rPr b="1" i="1" lang="th-TH" sz="2800" spc="-1" strike="noStrike" u="sng">
                <a:solidFill>
                  <a:srgbClr val="000000"/>
                </a:solidFill>
                <a:uFillTx/>
                <a:latin typeface="Angsana New"/>
                <a:cs typeface="Angsana New"/>
              </a:rPr>
              <a:t>เป็นสมาชิกใหม่</a:t>
            </a:r>
            <a:r>
              <a:rPr b="1" i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ดำเนินการดังนี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ff"/>
                </a:solidFill>
                <a:latin typeface="Arial"/>
                <a:ea typeface="Angsana New"/>
              </a:rPr>
              <a:t>   </a:t>
            </a:r>
            <a:r>
              <a:rPr b="0" i="1" lang="th-TH" sz="1800" spc="-1" strike="noStrike">
                <a:solidFill>
                  <a:srgbClr val="0000ff"/>
                </a:solidFill>
                <a:latin typeface="Arial"/>
                <a:ea typeface="Angsana New"/>
              </a:rPr>
              <a:t>-</a:t>
            </a:r>
            <a:r>
              <a:rPr b="1" i="1" lang="th-TH" sz="1800" spc="-1" strike="noStrike">
                <a:solidFill>
                  <a:srgbClr val="0000ff"/>
                </a:solidFill>
                <a:latin typeface="Arial"/>
                <a:ea typeface="Angsana New"/>
              </a:rPr>
              <a:t> </a:t>
            </a:r>
            <a:r>
              <a:rPr b="0" i="1" lang="th-TH" sz="2400" spc="-1" strike="noStrike">
                <a:solidFill>
                  <a:srgbClr val="0000ff"/>
                </a:solidFill>
                <a:latin typeface="Arial"/>
                <a:cs typeface="Angsana New"/>
              </a:rPr>
              <a:t>แจ้งความประสงค์เลือกช่องทางส่งข้อมู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-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สมัครเป็นสมาชิก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(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แบบฟอร์มแสดงความตกลงใช้บริการ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-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ส่งแบบฟอร์มแต่งตั้งผู้จัดการสิทธิ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(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ถ้ามี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-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ส่งแบบฟอร์มแต่งตั้งและกำหนดสิทธิผู้ปฏิบัติงาน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Offic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-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ดูระเบียบการสมัครได้ที่ </a:t>
            </a:r>
            <a:r>
              <a:rPr b="0" i="1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BOT Website ,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โครงการพัฒนา</a:t>
            </a:r>
            <a:r>
              <a:rPr b="0" i="1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,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บริการรับส่งข้อมูลทางอินเทอร์เน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* 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รณีเลือกส่งข้อมูลทาง </a:t>
            </a:r>
            <a:r>
              <a:rPr b="1" i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DA Internet 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</a:t>
            </a:r>
            <a:r>
              <a:rPr b="1" i="1" lang="th-TH" sz="2800" spc="-1" strike="noStrike" u="sng">
                <a:solidFill>
                  <a:srgbClr val="000000"/>
                </a:solidFill>
                <a:uFillTx/>
                <a:latin typeface="Angsana New"/>
                <a:cs typeface="Angsana New"/>
              </a:rPr>
              <a:t>เป็นสมาชิกอยู่แล้ว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 ดำเนินการดังนี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- 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แจ้งความประสงค์เลือกช่องทางส่งข้อมู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-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ไม่ต้องสมัครเป็นสมาชิกใหม่ 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(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ไม่ต้องส่งแบบฟอร์มแสดงความตกลงใช้บริการ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-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ส่งแบบฟอร์ม</a:t>
            </a:r>
            <a:r>
              <a:rPr b="0" i="1" lang="th-TH" sz="2400" spc="-1" strike="noStrike">
                <a:solidFill>
                  <a:srgbClr val="0000ff"/>
                </a:solidFill>
                <a:latin typeface="Arial"/>
                <a:cs typeface="Angsana New"/>
              </a:rPr>
              <a:t>แต่งตั้งผู้จัดสิทธิ</a:t>
            </a:r>
            <a:r>
              <a:rPr b="0" i="1" lang="th-TH" sz="2400" spc="-1" strike="noStrike">
                <a:solidFill>
                  <a:srgbClr val="0000ff"/>
                </a:solidFill>
                <a:latin typeface="Arial"/>
                <a:ea typeface="Angsana New"/>
              </a:rPr>
              <a:t>(</a:t>
            </a:r>
            <a:r>
              <a:rPr b="0" i="1" lang="th-TH" sz="2400" spc="-1" strike="noStrike">
                <a:solidFill>
                  <a:srgbClr val="0000ff"/>
                </a:solidFill>
                <a:latin typeface="Arial"/>
                <a:cs typeface="Angsana New"/>
              </a:rPr>
              <a:t>ถ้ามี</a:t>
            </a:r>
            <a:r>
              <a:rPr b="0" i="1" lang="th-TH" sz="2400" spc="-1" strike="noStrike">
                <a:solidFill>
                  <a:srgbClr val="0000ff"/>
                </a:solidFill>
                <a:latin typeface="Arial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- 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cs typeface="Angsana New"/>
              </a:rPr>
              <a:t>ส่งแบบฟอร์มแต่งตั้ง</a:t>
            </a:r>
            <a:r>
              <a:rPr b="0" i="1" lang="th-TH" sz="2400" spc="-1" strike="noStrike">
                <a:solidFill>
                  <a:srgbClr val="0000ff"/>
                </a:solidFill>
                <a:latin typeface="Arial"/>
                <a:cs typeface="Angsana New"/>
              </a:rPr>
              <a:t>และกำหนดสิทธิผู้ปฏิบัติงาน</a:t>
            </a:r>
            <a:r>
              <a:rPr b="0" i="1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(Officer)</a:t>
            </a:r>
            <a:r>
              <a:rPr b="0" i="1" lang="th-TH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22720" y="85680"/>
            <a:ext cx="59212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marL="5868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ff"/>
                </a:solidFill>
                <a:latin typeface="Cordia New"/>
                <a:cs typeface="Cordia New"/>
              </a:rPr>
              <a:t>การจัดการข้อมู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76440"/>
            <a:ext cx="914400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000" spc="-1" strike="noStrike">
                <a:solidFill>
                  <a:srgbClr val="66ff99"/>
                </a:solidFill>
                <a:latin typeface="Angsana New"/>
                <a:ea typeface="Angsana Ne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ธปท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ผยแพร่เอกสารและโปรแกรมภายในวันที่ 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18 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ิถุนายน  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25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0" i="1" lang="en-US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(1)  Data File Manual </a:t>
            </a:r>
            <a:r>
              <a:rPr b="0" i="1" lang="th-TH" sz="2800" spc="-1" strike="noStrike">
                <a:solidFill>
                  <a:srgbClr val="0000ff"/>
                </a:solidFill>
                <a:latin typeface="Angsana New"/>
                <a:cs typeface="Angsana New"/>
              </a:rPr>
              <a:t>และ </a:t>
            </a:r>
            <a:r>
              <a:rPr b="0" i="1" lang="en-US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Data File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0" i="1" lang="en-US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(2)  Schema File</a:t>
            </a:r>
            <a:r>
              <a:rPr b="0" i="1" lang="th-TH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i="1" lang="th-TH" sz="2800" spc="-1" strike="noStrike">
                <a:solidFill>
                  <a:srgbClr val="0000ff"/>
                </a:solidFill>
                <a:latin typeface="Angsana New"/>
                <a:cs typeface="Angsana New"/>
              </a:rPr>
              <a:t>ของ </a:t>
            </a:r>
            <a:r>
              <a:rPr b="0" i="1" lang="en-US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DF_FXP, DF_FXM </a:t>
            </a:r>
            <a:r>
              <a:rPr b="0" i="1" lang="th-TH" sz="2800" spc="-1" strike="noStrike">
                <a:solidFill>
                  <a:srgbClr val="0000ff"/>
                </a:solidFill>
                <a:latin typeface="Angsana New"/>
                <a:cs typeface="Angsana New"/>
              </a:rPr>
              <a:t>และ </a:t>
            </a:r>
            <a:r>
              <a:rPr b="0" i="1" lang="en-US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DF_FX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0" i="1" lang="en-US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(3)  File Excel Template  </a:t>
            </a:r>
            <a:r>
              <a:rPr b="0" i="1" lang="th-TH" sz="2800" spc="-1" strike="noStrike">
                <a:solidFill>
                  <a:srgbClr val="0000ff"/>
                </a:solidFill>
                <a:latin typeface="Angsana New"/>
                <a:cs typeface="Angsana New"/>
              </a:rPr>
              <a:t>และคู่มือการใช้งาน </a:t>
            </a:r>
            <a:r>
              <a:rPr b="0" i="1" lang="en-US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0" i="1" lang="en-US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(4)  FI Data Entry </a:t>
            </a:r>
            <a:r>
              <a:rPr b="0" i="1" lang="th-TH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i="1" lang="th-TH" sz="2800" spc="-1" strike="noStrike">
                <a:solidFill>
                  <a:srgbClr val="0000ff"/>
                </a:solidFill>
                <a:latin typeface="Angsana New"/>
                <a:cs typeface="Angsana New"/>
              </a:rPr>
              <a:t>ใช้ติดตั้งบน </a:t>
            </a:r>
            <a:r>
              <a:rPr b="0" i="1" lang="en-US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PC </a:t>
            </a:r>
            <a:r>
              <a:rPr b="0" i="1" lang="th-TH" sz="2800" spc="-1" strike="noStrike">
                <a:solidFill>
                  <a:srgbClr val="0000ff"/>
                </a:solidFill>
                <a:latin typeface="Angsana New"/>
                <a:cs typeface="Angsana New"/>
              </a:rPr>
              <a:t>เพื่อ </a:t>
            </a:r>
            <a:r>
              <a:rPr b="0" i="1" lang="en-US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key </a:t>
            </a:r>
            <a:r>
              <a:rPr b="0" i="1" lang="th-TH" sz="2800" spc="-1" strike="noStrike">
                <a:solidFill>
                  <a:srgbClr val="0000ff"/>
                </a:solidFill>
                <a:latin typeface="Angsana New"/>
                <a:cs typeface="Angsana New"/>
              </a:rPr>
              <a:t>ข้อมู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0" i="1" lang="th-TH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</a:t>
            </a:r>
            <a:r>
              <a:rPr b="0" i="1" lang="th-TH" sz="2800" spc="-1" strike="noStrike">
                <a:solidFill>
                  <a:srgbClr val="0000ff"/>
                </a:solidFill>
                <a:latin typeface="Angsana New"/>
                <a:cs typeface="Angsana New"/>
              </a:rPr>
              <a:t>ได้ </a:t>
            </a:r>
            <a:r>
              <a:rPr b="0" i="1" lang="en-US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Output File </a:t>
            </a:r>
            <a:r>
              <a:rPr b="0" i="1" lang="th-TH" sz="2800" spc="-1" strike="noStrike">
                <a:solidFill>
                  <a:srgbClr val="0000ff"/>
                </a:solidFill>
                <a:latin typeface="Angsana New"/>
                <a:cs typeface="Angsana New"/>
              </a:rPr>
              <a:t>เป็น </a:t>
            </a:r>
            <a:r>
              <a:rPr b="0" i="1" lang="en-US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XM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89360" y="85680"/>
            <a:ext cx="6254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marL="5868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ff"/>
                </a:solidFill>
                <a:latin typeface="Cordia New"/>
                <a:cs typeface="Cordia New"/>
              </a:rPr>
              <a:t>ข้อมูลรูปแบบใหม่ที่ต้องจัดส่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376200" y="655560"/>
            <a:ext cx="9304200" cy="75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000" spc="-1" strike="noStrike">
                <a:solidFill>
                  <a:srgbClr val="000000"/>
                </a:solidFill>
                <a:latin typeface="Angsana New"/>
                <a:ea typeface="Angsana New"/>
              </a:rPr>
              <a:t>(1) </a:t>
            </a:r>
            <a:r>
              <a:rPr b="1" i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DF_FXP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  <a:ea typeface="Angsana New"/>
              </a:rPr>
              <a:t>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้อมูลฐานะเงินตราต่างประเทศ </a:t>
            </a:r>
            <a:r>
              <a:rPr b="0" i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FX Posi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ngsana New"/>
                <a:ea typeface="Angsana New"/>
              </a:rPr>
              <a:t>(2) </a:t>
            </a:r>
            <a:r>
              <a:rPr b="1" i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DF_FXU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  <a:ea typeface="Angsana New"/>
              </a:rPr>
              <a:t>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้อมูลสรุปการซื้อขายเงินตราต่างประเทศต่ำกว่า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1 </a:t>
            </a:r>
            <a:r>
              <a:rPr b="0" i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M U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-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่งข้อมูล ภายในเวลา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08.30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น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.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องวันทำการถัดไปจากวันที่เกิดธุรกรร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ngsana New"/>
                <a:ea typeface="Angsana New"/>
              </a:rPr>
              <a:t>(3) </a:t>
            </a:r>
            <a:r>
              <a:rPr b="1" i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DF_FXM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  <a:ea typeface="Angsana New"/>
              </a:rPr>
              <a:t>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้อมูลการซื้อขายเงินตราต่างประเทศตั้งแต่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1 </a:t>
            </a:r>
            <a:r>
              <a:rPr b="0" i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M U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-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ธุรกรรมที่เกิดขึ้นภายในครึ่งวันเช้า ให้ส่งภายในเวลา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12.00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น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- </a:t>
            </a:r>
            <a:r>
              <a:rPr b="0" i="1" lang="th-TH" sz="2800" spc="-1" strike="noStrike">
                <a:solidFill>
                  <a:srgbClr val="000000"/>
                </a:solidFill>
                <a:latin typeface="Arial"/>
                <a:cs typeface="Angsana New"/>
              </a:rPr>
              <a:t>ธุรกรรมที่เกิดขึ้นในช่วงบ่าย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ห้ส่งภายในเวลา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15.30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น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-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ธุรกรรมที่เหลือส่งภายใน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17.30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น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-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ธุรกรรมหลังจากนี้สามารถจัดส่งได้ตลอดเวลาก่อ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08.30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น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. </a:t>
            </a:r>
            <a:r>
              <a:rPr b="0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องวันทำการถัดไปจากวันที่เกิดธุรกรร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22720" y="85680"/>
            <a:ext cx="59212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marL="5868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0000ff"/>
                </a:solidFill>
                <a:latin typeface="Arial"/>
                <a:cs typeface="CordiaUPC"/>
              </a:rPr>
              <a:t>การส่งข้อมูลคู่ขนา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04800"/>
            <a:ext cx="8826480" cy="23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่งข้อมูลเดิมของตาราง </a:t>
            </a:r>
            <a:r>
              <a:rPr b="1" i="1" lang="th-TH" sz="3000" spc="-1" strike="noStrike">
                <a:solidFill>
                  <a:srgbClr val="000000"/>
                </a:solidFill>
                <a:latin typeface="Angsana New"/>
                <a:ea typeface="Angsana New"/>
              </a:rPr>
              <a:t>1 </a:t>
            </a:r>
            <a:r>
              <a:rPr b="1" i="1" lang="th-TH" sz="30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 ตาราง </a:t>
            </a:r>
            <a:r>
              <a:rPr b="1" i="1" lang="th-TH" sz="3000" spc="-1" strike="noStrike">
                <a:solidFill>
                  <a:srgbClr val="000000"/>
                </a:solidFill>
                <a:latin typeface="Angsana New"/>
                <a:ea typeface="Angsana New"/>
              </a:rPr>
              <a:t>3 – 6 </a:t>
            </a:r>
            <a:r>
              <a:rPr b="1" i="1" lang="th-TH" sz="30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ู่ขนานเป็นเวลา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8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0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i="1" lang="th-TH" sz="3000" spc="-1" strike="noStrike">
                <a:solidFill>
                  <a:srgbClr val="000000"/>
                </a:solidFill>
                <a:latin typeface="Angsana New"/>
                <a:ea typeface="Angsana New"/>
              </a:rPr>
              <a:t>3 </a:t>
            </a:r>
            <a:r>
              <a:rPr b="1" i="1" lang="th-TH" sz="30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ดือน ตั้งแต่ กันยายน</a:t>
            </a:r>
            <a:r>
              <a:rPr b="1" i="1" lang="th-TH" sz="3000" spc="-1" strike="noStrike">
                <a:solidFill>
                  <a:srgbClr val="000000"/>
                </a:solidFill>
                <a:latin typeface="Angsana New"/>
                <a:ea typeface="Angsana New"/>
              </a:rPr>
              <a:t>-</a:t>
            </a:r>
            <a:r>
              <a:rPr b="1" i="1" lang="th-TH" sz="30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ฤศจิกายน </a:t>
            </a:r>
            <a:r>
              <a:rPr b="1" i="1" lang="th-TH" sz="3000" spc="-1" strike="noStrike">
                <a:solidFill>
                  <a:srgbClr val="000000"/>
                </a:solidFill>
                <a:latin typeface="Angsana New"/>
                <a:ea typeface="Angsana New"/>
              </a:rPr>
              <a:t>2550</a:t>
            </a:r>
            <a:r>
              <a:rPr b="1" i="1" lang="th-TH" sz="40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1" i="1" lang="th-TH" sz="3600" spc="-1" strike="noStrike">
                <a:solidFill>
                  <a:srgbClr val="000000"/>
                </a:solidFill>
                <a:latin typeface="Arial"/>
                <a:ea typeface="Angsana New"/>
              </a:rPr>
              <a:t>(</a:t>
            </a:r>
            <a:r>
              <a:rPr b="1" i="1" lang="th-TH" sz="3600" spc="-1" strike="noStrike">
                <a:solidFill>
                  <a:srgbClr val="000000"/>
                </a:solidFill>
                <a:latin typeface="Arial"/>
                <a:cs typeface="Angsana New"/>
              </a:rPr>
              <a:t>ช่องทางเดิม</a:t>
            </a:r>
            <a:r>
              <a:rPr b="1" i="1" lang="th-TH" sz="3600" spc="-1" strike="noStrike">
                <a:solidFill>
                  <a:srgbClr val="000000"/>
                </a:solidFill>
                <a:latin typeface="Arial"/>
                <a:ea typeface="Angsana New"/>
              </a:rPr>
              <a:t>)</a:t>
            </a:r>
            <a:r>
              <a:rPr b="0" i="1" lang="en-US" sz="3200" spc="-1" strike="noStrike">
                <a:solidFill>
                  <a:srgbClr val="66ff99"/>
                </a:solidFill>
                <a:latin typeface="Angsana New"/>
                <a:ea typeface="Angsana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31640" y="2260440"/>
          <a:ext cx="8229600" cy="3746520"/>
        </p:xfrm>
        <a:graphic>
          <a:graphicData uri="http://schemas.openxmlformats.org/drawingml/2006/table">
            <a:tbl>
              <a:tblPr/>
              <a:tblGrid>
                <a:gridCol w="1092240"/>
                <a:gridCol w="7137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าราง </a:t>
                      </a: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Daily Foreign Currency Purchase / Sale Transactions Report /</a:t>
                      </a: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รายงานธุรกรรมการซื้อขายเงินตราต่างประเทศประจำวั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าราง </a:t>
                      </a: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Forward Contracts Balance / </a:t>
                      </a: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สัญญาคงค้างธุรกรรม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Forwo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าราง </a:t>
                      </a: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Foreign Exchange Transaction (With Non - Res) / </a:t>
                      </a: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รายงานธุรกรรมเงินตราต่างประเทศกับสถาบันการเงินต่างประเท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าราง </a:t>
                      </a: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Foreign Exchange Transaction (With Non - Bank Resident) /</a:t>
                      </a: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รายงานธุรกรรมเงินตราต่างประเทศกับลูกค้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าราง </a:t>
                      </a: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Foreign Exchange Transaction (With Resident Bank)</a:t>
                      </a: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/</a:t>
                      </a: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รายงานธุรกรรมเงินตราต่างประเทศกับธนาคารในประเท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l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35240" y="85680"/>
            <a:ext cx="69087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marL="5868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ff"/>
                </a:solidFill>
                <a:latin typeface="Cordia New"/>
                <a:cs typeface="Cordia New"/>
              </a:rPr>
              <a:t>การส่งข้อมูลเร็วอื่น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412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อให้สถาบันการเงินส่งข้อมูลเร็วตาราง 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7</a:t>
            </a:r>
            <a:r>
              <a:rPr b="1" i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,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21 – 27</a:t>
            </a:r>
            <a:r>
              <a:rPr b="1" i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A, 31 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ที่ </a:t>
            </a:r>
            <a:r>
              <a:rPr b="1" i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DA Extranet/Internet 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ามช่องทางที่ท่านแจ้งเลือก ตั้งแต่วันที่ 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3 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ันยายน 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2550 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็นต้นไ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47680" y="1644480"/>
          <a:ext cx="8496360" cy="4799160"/>
        </p:xfrm>
        <a:graphic>
          <a:graphicData uri="http://schemas.openxmlformats.org/drawingml/2006/table">
            <a:tbl>
              <a:tblPr/>
              <a:tblGrid>
                <a:gridCol w="1193760"/>
                <a:gridCol w="7302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าราง </a:t>
                      </a: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Foreign Exchange Counter Rates/ 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รายงานอัตราแลกเปลี่ยนการซื้อขายเงินตราต่างประเทศกับลูกค้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าราง </a:t>
                      </a: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Outstanding Balance of THB Lending to NR Transaction with Non - Res (Without Underlying)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/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รายงานยอดคงค้างการปล่อยกู้บาทให้กับสถาบันการเงินต่างประเทศโดยไม่มีธุรกรรมทางเศรษฐกิจรองรั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าราง </a:t>
                      </a: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Outstanding of THB Lending Transaction with Non - Res (With Underlying)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/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รายงานยอดคงค้างการปล่อยกู้บาทให้กับสถาบันการเงินต่างประเทศโดยมีธุรกรรมทางเศรษฐกิจรองรั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าราง </a:t>
                      </a: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Outstanding Balance of THB Borrowing Transactions (Without Underlying)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/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รายงานยอดคงค้างการกู้ยืมบาทกับสถาบันการเงินต่างประเทศโดยไม่มีธุรกรรมทางเศรษฐกิจรองรั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าราง </a:t>
                      </a: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Outstanding Balance of THB Borrowing Transactions (With Underlying)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/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รายงานยอดคงค้างการกู้ยืมบาทกับสถาบันการเงินต่างประเทศโดยมีธุรกรรมทางเศรษฐกิจรองรั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าราง </a:t>
                      </a: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Outstanding Balances of All NRBAs 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/ 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ยอดคงค้างของบัญชี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NRBA 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ทุกบัญช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าราง </a:t>
                      </a:r>
                      <a:r>
                        <a:rPr b="1" i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Outstanding Balances of  NRBAs From Baht  200  Million /  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ยอดคงค้างของบัญชี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NRBA 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จำนวนเงินตั้งแต่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200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</a:t>
                      </a:r>
                      <a:r>
                        <a:rPr b="1" i="1" lang="th-TH" sz="20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ล้านบาทขึ้นไ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l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formation Technology</cp:lastModifiedBy>
  <dcterms:modified xsi:type="dcterms:W3CDTF">2007-05-30T02:53:25Z</dcterms:modified>
  <cp:revision>479</cp:revision>
  <dc:subject/>
  <dc:title>ประชุมชี้แจง Data Set  แก่ สถาบันการเงิน ครั้งที่ 1  วันที่  8  ตุลาคม 2545 ณ. โรงแรมนารายณ์</dc:title>
</cp:coreProperties>
</file>