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6560" y="395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656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924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560" y="180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2200" y="180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6560" y="395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560" y="395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2200" y="395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656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4880" y="439200"/>
            <a:ext cx="84535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56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656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924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6560" y="395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36560" y="395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3656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924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560" y="180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2200" y="180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36560" y="395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560" y="395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2200" y="395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880" y="439200"/>
            <a:ext cx="84535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656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9240" y="395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880" y="317160"/>
            <a:ext cx="8453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656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9240" y="180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6560" y="395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C Half Banner"/>
          <p:cNvSpPr/>
          <p:nvPr/>
        </p:nvSpPr>
        <p:spPr>
          <a:xfrm>
            <a:off x="0" y="0"/>
            <a:ext cx="9144000" cy="102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29cc6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" name="Line 3"/>
          <p:cNvSpPr/>
          <p:nvPr/>
        </p:nvSpPr>
        <p:spPr>
          <a:xfrm>
            <a:off x="0" y="1028880"/>
            <a:ext cx="914256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2" name="Object 4"/>
          <p:cNvGraphicFramePr/>
          <p:nvPr/>
        </p:nvGraphicFramePr>
        <p:xfrm>
          <a:off x="1440" y="-1440"/>
          <a:ext cx="1825920" cy="5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-1440"/>
                    <a:ext cx="18259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439200"/>
            <a:ext cx="84535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owallia Ne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656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Text Box 21"/>
          <p:cNvSpPr/>
          <p:nvPr/>
        </p:nvSpPr>
        <p:spPr>
          <a:xfrm>
            <a:off x="8559720" y="6472080"/>
            <a:ext cx="5842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DF09-0119-47D3-BB26-576AD6A441B5}" type="slidenum">
              <a:rPr b="1" lang="en-US" sz="1600" spc="-1" strike="noStrike">
                <a:solidFill>
                  <a:srgbClr val="006699"/>
                </a:solidFill>
                <a:latin typeface="Browallia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C Half Banner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729cc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pic>
        <p:nvPicPr>
          <p:cNvPr id="44" name="Picture 8" descr="Palace1"/>
          <p:cNvPicPr/>
          <p:nvPr/>
        </p:nvPicPr>
        <p:blipFill>
          <a:blip r:embed="rId2"/>
          <a:stretch/>
        </p:blipFill>
        <p:spPr>
          <a:xfrm>
            <a:off x="4444920" y="393840"/>
            <a:ext cx="4648320" cy="339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name"/>
          <p:cNvPicPr/>
          <p:nvPr/>
        </p:nvPicPr>
        <p:blipFill>
          <a:blip r:embed="rId3"/>
          <a:stretch/>
        </p:blipFill>
        <p:spPr>
          <a:xfrm>
            <a:off x="5956200" y="127080"/>
            <a:ext cx="2963880" cy="73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Latest"/>
          <p:cNvPicPr/>
          <p:nvPr/>
        </p:nvPicPr>
        <p:blipFill>
          <a:blip r:embed="rId4"/>
          <a:stretch/>
        </p:blipFill>
        <p:spPr>
          <a:xfrm>
            <a:off x="4754520" y="25560"/>
            <a:ext cx="960480" cy="919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4880" y="439200"/>
            <a:ext cx="84535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owallia Ne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Browallia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3656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666720" y="3738600"/>
            <a:ext cx="7853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8680"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รุปผลการวิเคราะห์ความพร้อมของสถาบันการเงินต่อการปรับปรุงแบบรายงานและวิธีการส่งข้อมูลเร็ว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ารซื้อขายเงินตราต่างประเทศประจำวัน  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33360" y="6632640"/>
            <a:ext cx="4079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8" name=""/>
          <p:cNvSpPr/>
          <p:nvPr/>
        </p:nvSpPr>
        <p:spPr>
          <a:xfrm>
            <a:off x="3309840" y="347760"/>
            <a:ext cx="5224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9" name=""/>
          <p:cNvSpPr/>
          <p:nvPr/>
        </p:nvSpPr>
        <p:spPr>
          <a:xfrm>
            <a:off x="272880" y="4583160"/>
            <a:ext cx="3200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0" name=""/>
          <p:cNvSpPr/>
          <p:nvPr/>
        </p:nvSpPr>
        <p:spPr>
          <a:xfrm>
            <a:off x="272880" y="22399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1" name=""/>
          <p:cNvSpPr/>
          <p:nvPr/>
        </p:nvSpPr>
        <p:spPr>
          <a:xfrm>
            <a:off x="1287360" y="523800"/>
            <a:ext cx="663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cc"/>
                </a:solidFill>
                <a:latin typeface="Tahoma"/>
                <a:cs typeface="Tahoma"/>
              </a:rPr>
              <a:t>การตอบแบบสอบถาม จากการ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  <a:ea typeface="Tahoma"/>
              </a:rPr>
              <a:t>Hearing 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cs typeface="Tahoma"/>
              </a:rPr>
              <a:t>สง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ea typeface="Tahoma"/>
              </a:rPr>
              <a:t>. 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cs typeface="Tahoma"/>
              </a:rPr>
              <a:t>วันพฤหัสที่  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ea typeface="Tahoma"/>
              </a:rPr>
              <a:t>19 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cs typeface="Tahoma"/>
              </a:rPr>
              <a:t>เม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cs typeface="Tahoma"/>
              </a:rPr>
              <a:t>ย</a:t>
            </a:r>
            <a:r>
              <a:rPr b="1" lang="th-TH" sz="1800" spc="-1" strike="noStrike">
                <a:solidFill>
                  <a:srgbClr val="0033cc"/>
                </a:solidFill>
                <a:latin typeface="Tahoma"/>
                <a:ea typeface="Tahoma"/>
              </a:rPr>
              <a:t>.50</a:t>
            </a:r>
            <a:endParaRPr b="1" lang="en-US" sz="18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93560" y="1892160"/>
          <a:ext cx="7939080" cy="4753080"/>
        </p:xfrm>
        <a:graphic>
          <a:graphicData uri="http://schemas.openxmlformats.org/drawingml/2006/table">
            <a:tbl>
              <a:tblPr/>
              <a:tblGrid>
                <a:gridCol w="3730680"/>
                <a:gridCol w="1927440"/>
                <a:gridCol w="2280960"/>
              </a:tblGrid>
              <a:tr h="33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.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นำส่งข้อมูลเร็วระหว่างวันให้ ธปท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างเลือกการส่งข้อมูล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างเลือกที่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</a:t>
                      </a:r>
                      <a:br>
                        <a:rPr sz="1400"/>
                      </a:b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ายงานเป็นข้อมูลเร็ว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างเลือกที่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</a:t>
                      </a:r>
                      <a:br>
                        <a:rPr sz="1400"/>
                      </a:b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ใช้ระบบ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MS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32 (86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5 (14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่งข้อมูลซื้อขายระหว่างวั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ำได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ำไม่ได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 (7</a:t>
                      </a: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 (2</a:t>
                      </a: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่งรายการเพิ่ม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อแก้ไ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ฉพาะรายการเพิ่ม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งใหม่ทั้งชุ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10 (28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26 (72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ช่องทางการส่งข้อมูล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A- Intern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DA - Extran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17 (46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20 (54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.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พร้อมของสถาบันการเงิ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ามารถดำเนินการแผนที่ ธปท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ำหนดไว้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5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50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รือไม่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ำได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ำไม่ได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20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 (5</a:t>
                      </a: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 (4</a:t>
                      </a: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th-TH" sz="1400" spc="-1" strike="noStrike">
                          <a:solidFill>
                            <a:srgbClr val="0033cc"/>
                          </a:solidFill>
                          <a:latin typeface="Tahoma"/>
                          <a:ea typeface="Tahoma"/>
                        </a:rPr>
                        <a:t>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757440" y="1089000"/>
            <a:ext cx="6930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ธนาคารรับอนุญาตทั้งหมด 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ea typeface="Tahoma"/>
              </a:rPr>
              <a:t>39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แห่ง เข้าร่วมประชุมและตอบแบบสอบถาม 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ea typeface="Tahoma"/>
              </a:rPr>
              <a:t>37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แห่ง</a:t>
            </a:r>
            <a:br>
              <a:rPr sz="1600"/>
            </a:b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ไม่เข้าประชุม  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ea typeface="Tahoma"/>
              </a:rPr>
              <a:t>2  </a:t>
            </a:r>
            <a:r>
              <a:rPr b="1" lang="th-TH" sz="1600" spc="-1" strike="noStrike">
                <a:solidFill>
                  <a:srgbClr val="0033cc"/>
                </a:solidFill>
                <a:latin typeface="Tahoma"/>
                <a:cs typeface="Tahoma"/>
              </a:rPr>
              <a:t>ราย</a:t>
            </a:r>
            <a:endParaRPr b="1" lang="en-US" sz="16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770040" y="1770120"/>
          <a:ext cx="7534080" cy="3549600"/>
        </p:xfrm>
        <a:graphic>
          <a:graphicData uri="http://schemas.openxmlformats.org/drawingml/2006/table">
            <a:tbl>
              <a:tblPr/>
              <a:tblGrid>
                <a:gridCol w="753408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ด็นปัญหาที่สถาบันการเงินหยิบยกขึ้นม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มูลที่ส่งไปอาจไม่สมบูรณ์ถูกต้อง</a:t>
                      </a:r>
                      <a:br>
                        <a:rPr sz="1400"/>
                      </a:b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นาคารใช้ระบบ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tch Processing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อนสิ้นวั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นาคารมีปริมาณข้อมูลธุรกรรมเงินตราต่างประเทศจำนวนมาก  ระบบการจัดเก็บข้อมูลในส่วนที่เกี่ยวข้องมีหลายระบ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br>
                        <a:rPr sz="1400"/>
                      </a:b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Front Office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ราบข้อมูล ณ สิ้นวัน ส่ว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ck office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ราบข้อมูลในวันถัดไป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าจเกิดการแก้ไข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ansa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112840" y="289080"/>
            <a:ext cx="60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ปัญหาการส่งข้อมูลซื้อขายระหว่างวัน</a:t>
            </a: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3040" y="463680"/>
            <a:ext cx="60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สรุปผลระบบการส่งข้อมูล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DMS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(FM)</a:t>
            </a: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39800" y="1382760"/>
          <a:ext cx="7358040" cy="4059360"/>
        </p:xfrm>
        <a:graphic>
          <a:graphicData uri="http://schemas.openxmlformats.org/drawingml/2006/table">
            <a:tbl>
              <a:tblPr/>
              <a:tblGrid>
                <a:gridCol w="1390680"/>
                <a:gridCol w="1495440"/>
                <a:gridCol w="1177920"/>
                <a:gridCol w="1800000"/>
                <a:gridCol w="1494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ภท สง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ำนวน สง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บบการส่งข้อมูล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ช้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ช้าเป็นบางช่ว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ไม่ช้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พ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ไทย </a:t>
                      </a:r>
                      <a:r>
                        <a:rPr b="1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าขา ธพ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ปท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ง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ิเศษของรัฐ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00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(16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(35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(49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*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ทำธุรกรรม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X 2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ห่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7920" y="507960"/>
            <a:ext cx="60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สรุปผลระบบการส่งข้อมูล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DMS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(FI)</a:t>
            </a: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00360" y="1612800"/>
          <a:ext cx="5151240" cy="4060800"/>
        </p:xfrm>
        <a:graphic>
          <a:graphicData uri="http://schemas.openxmlformats.org/drawingml/2006/table">
            <a:tbl>
              <a:tblPr/>
              <a:tblGrid>
                <a:gridCol w="2228760"/>
                <a:gridCol w="982440"/>
                <a:gridCol w="851040"/>
                <a:gridCol w="108900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ประเภท สง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จำนวน สง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ระบบการส่งข้อมู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ช้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ไม่ช้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ธพ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ไท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าขา ธพ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ตปท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บ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เงินทุ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บ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เครดิตฟองซิเอร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-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รว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4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(100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9900"/>
                          </a:solidFill>
                          <a:latin typeface="Browallia New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9900"/>
                          </a:solidFill>
                          <a:latin typeface="Browallia New"/>
                        </a:rPr>
                        <a:t>(19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9900"/>
                          </a:solidFill>
                          <a:latin typeface="Browallia New"/>
                        </a:rPr>
                        <a:t>3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9900"/>
                          </a:solidFill>
                          <a:latin typeface="Browallia New"/>
                        </a:rPr>
                        <a:t>(81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06400" y="1379520"/>
            <a:ext cx="60152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ของระบบการส่งข้อมูลล่าช้า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1" name=""/>
          <p:cNvSpPr/>
          <p:nvPr/>
        </p:nvSpPr>
        <p:spPr>
          <a:xfrm>
            <a:off x="833400" y="2336760"/>
            <a:ext cx="7656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จะช้าในช่วงเวลาใกล้ปิดรับข้อมูล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16.00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ง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ร่งส่งเพื่อให้ทัน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un ETL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ช้า ระหว่างวันที่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18-22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องทุกเดือน ที่ข้อมูล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FI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รบกำหนดส่งข้อมูล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ณะเลือกเงื่อนไข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Data Set,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วันที่ของข้อมูล  และชื่อของผู้ส่ง  ช้ามาก  ใช้เวลาในการ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Load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ubmi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แต่ละ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file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ประมาณ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15-20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นาที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-34920" y="363600"/>
            <a:ext cx="91281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marL="58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33cc"/>
                </a:solidFill>
                <a:latin typeface="Browallia New"/>
              </a:rPr>
              <a:t>แผนการดำเนินงาน</a:t>
            </a:r>
            <a:endParaRPr b="1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365040" y="1241280"/>
            <a:ext cx="78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Browallia New"/>
              </a:rPr>
              <a:t>แผนการดำเนินงาน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5920" y="1917720"/>
          <a:ext cx="8313480" cy="4235400"/>
        </p:xfrm>
        <a:graphic>
          <a:graphicData uri="http://schemas.openxmlformats.org/drawingml/2006/table">
            <a:tbl>
              <a:tblPr/>
              <a:tblGrid>
                <a:gridCol w="2239920"/>
                <a:gridCol w="1563120"/>
                <a:gridCol w="230760"/>
                <a:gridCol w="216720"/>
                <a:gridCol w="246960"/>
                <a:gridCol w="216000"/>
                <a:gridCol w="216000"/>
                <a:gridCol w="216000"/>
                <a:gridCol w="240480"/>
                <a:gridCol w="227880"/>
                <a:gridCol w="227880"/>
                <a:gridCol w="227880"/>
                <a:gridCol w="227880"/>
                <a:gridCol w="240480"/>
                <a:gridCol w="216000"/>
                <a:gridCol w="216000"/>
                <a:gridCol w="216000"/>
                <a:gridCol w="216000"/>
                <a:gridCol w="216000"/>
                <a:gridCol w="240480"/>
                <a:gridCol w="24084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พ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ค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มิ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ย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ก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ค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ค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ก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ย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ธป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ชี้แจงรูปแบบข้อมูล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Data file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และคู่มือการจัดทำข้อมูลเร็วเงินตราต่างประเท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29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พ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2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ธป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เผยแพร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XML Schema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แล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Excel Template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ทาง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BOT Websi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8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มิ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ย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3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ง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พัฒนาระบบงา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9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มิ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ย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–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3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4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ร่วมทดสอ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IWT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กั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ธปท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14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–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24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5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ส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เริ่มส่งข้อมูล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3 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ก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ย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Browallia New"/>
                        </a:rPr>
                        <a:t>. 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Browall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875120" y="259884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6" name=""/>
          <p:cNvSpPr/>
          <p:nvPr/>
        </p:nvSpPr>
        <p:spPr>
          <a:xfrm>
            <a:off x="5345280" y="3530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7" name=""/>
          <p:cNvSpPr/>
          <p:nvPr/>
        </p:nvSpPr>
        <p:spPr>
          <a:xfrm>
            <a:off x="7631280" y="5668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8" name=""/>
          <p:cNvSpPr/>
          <p:nvPr/>
        </p:nvSpPr>
        <p:spPr>
          <a:xfrm>
            <a:off x="5529240" y="4691160"/>
            <a:ext cx="17398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286240"/>
            <a:ext cx="3924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8T10:01:58Z</dcterms:created>
  <dc:creator/>
  <dc:description/>
  <cp:keywords/>
  <dc:language>en-US</dc:language>
  <cp:lastModifiedBy>rujinees</cp:lastModifiedBy>
  <cp:lastPrinted>2002-01-07T03:02:07Z</cp:lastPrinted>
  <dcterms:modified xsi:type="dcterms:W3CDTF">2007-06-01T03:17:22Z</dcterms:modified>
  <cp:revision>2714</cp:revision>
  <dc:subject/>
  <dc:title>BOT Proposal</dc:title>
</cp:coreProperties>
</file>