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B27-3445-4D6F-B547-DA844C1E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CBE-1D07-4132-AEB7-EF5C05DE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BBD-1832-4E53-A8E1-0C1B9331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880-4005-4EBD-BD4D-24E5E88A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1F45-D5D7-471C-834F-1D5AA76D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A185-78B9-4A50-B22D-CDBE9CB0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539C-56C7-4AEF-A0B2-4292621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0C66-665A-42AA-B4FD-7FA0FD7C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78E8-DA0A-4650-870E-C3911C7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124080" y="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BB38-5DC2-489D-B6FF-78DB9D88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298F-B42C-4954-A20D-C5A1B78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A5F-1590-49FE-A7A3-64EDE461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5666-885A-466B-9265-CE34524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9F3A-19EC-48FC-B311-68AD44F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12E-8E15-4D7B-910C-5ACAFD9F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F36B-F6A9-4CCA-8B02-0775577E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F254-3157-4FA5-8B94-11816064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2EF-9FB3-4211-A053-E21AB5A8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8A8-246F-4EA4-A67C-8727B036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0EE-476E-409D-9386-BEE4F568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912-B596-40B3-A5B7-3AB533AA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5ED-8DCB-405F-BECC-6752AC6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E27-664B-42E8-8BE4-0D44C55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150-F5F6-4619-BA69-E7AF949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rowallia New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Browalli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Browalli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Browalli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6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8D3-C980-4CA3-B1E7-5CB8453E829C}" type="datetime5">
              <a:rPr b="0" lang="th-TH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1 ก.ค. 2569</a:t>
            </a:fld>
            <a:r>
              <a:rPr b="0" lang="th-TH" sz="1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พร</a:t>
            </a:r>
            <a:r>
              <a:rPr b="0" lang="th-TH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- 13 </a:t>
            </a:r>
            <a:r>
              <a:rPr b="0" lang="th-TH" sz="1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</a:t>
            </a:r>
            <a:r>
              <a:rPr b="0" lang="th-TH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</a:t>
            </a:r>
            <a:r>
              <a:rPr b="0" lang="th-TH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Browallia New"/>
                <a:ea typeface="Browall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715D-54AF-4C90-A491-8375B0B0A6DA}" type="slidenum">
              <a:rPr b="0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014480"/>
            <a:chOff x="0" y="0"/>
            <a:chExt cx="9144000" cy="101448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144000" cy="1014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8120" y="1476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00"/>
                  </a:solidFill>
                  <a:latin typeface="Times New Roman"/>
                  <a:cs typeface="JasmineUPC"/>
                </a:rPr>
                <a:t>มุ่งมั่นพัฒนา สร้างคุณค่าเพื่อไท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1360" y="119160"/>
              <a:ext cx="704880" cy="703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rowallia New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Browallia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82B9-9E9F-4A80-856C-FD9124F7B48A}" type="datetime5"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31 ก.ค. 256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C577-75D9-4CAB-99B1-8B83DDA8F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3440" y="6547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400" spc="-1" strike="noStrike">
                <a:solidFill>
                  <a:srgbClr val="000099"/>
                </a:solidFill>
                <a:latin typeface="Browallia New"/>
                <a:cs typeface="Browallia New"/>
              </a:rPr>
              <a:t>โครงการพัฒนาระบบบริหารข้อมู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483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ngsana New"/>
                <a:ea typeface="Angsana New"/>
              </a:rPr>
              <a:t>http://www.bot.or.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C Half Banner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44920" y="393840"/>
            <a:ext cx="4648320" cy="33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56200" y="127080"/>
            <a:ext cx="296244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754520" y="25560"/>
            <a:ext cx="960480" cy="9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776840" y="6257880"/>
          <a:ext cx="56844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76840" y="6257880"/>
                    <a:ext cx="5684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773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ุดข้อมูลเร็วเงินตราต่างประเท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716280"/>
            <a:ext cx="748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9 </a:t>
            </a:r>
            <a:r>
              <a:rPr b="1" lang="th-TH" sz="6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ฤษภาคม </a:t>
            </a:r>
            <a:r>
              <a:rPr b="1" lang="th-TH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55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A75-1196-472B-9E10-00CFAC6C19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427640" y="1052640"/>
            <a:ext cx="0" cy="580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93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6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66240" y="476280"/>
            <a:ext cx="45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No Delivery or Can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320" y="1413000"/>
            <a:ext cx="3999960" cy="7075440"/>
            <a:chOff x="67320" y="1413000"/>
            <a:chExt cx="3999960" cy="7075440"/>
          </a:xfrm>
        </p:grpSpPr>
        <p:sp>
          <p:nvSpPr>
            <p:cNvPr id="185" name=""/>
            <p:cNvSpPr/>
            <p:nvPr/>
          </p:nvSpPr>
          <p:spPr>
            <a:xfrm>
              <a:off x="826920" y="1916280"/>
              <a:ext cx="324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3000" y="2637000"/>
              <a:ext cx="1729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0080" y="4005360"/>
              <a:ext cx="28800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Buy Contract      +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Sell Contract       -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t Change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Other Transaction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ฐานะ                         </a:t>
              </a: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55920" y="190800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23640" y="141300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56880" y="141300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360" y="191628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1720" y="256536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2880" y="2843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79320" y="2843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9520" y="3370320"/>
              <a:ext cx="18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48320" y="3284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65360" y="3860640"/>
              <a:ext cx="18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320" y="2946240"/>
              <a:ext cx="160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ทำสัญญาใหม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557960" y="969840"/>
            <a:ext cx="4154400" cy="7368480"/>
            <a:chOff x="4557960" y="969840"/>
            <a:chExt cx="4154400" cy="7368480"/>
          </a:xfrm>
        </p:grpSpPr>
        <p:sp>
          <p:nvSpPr>
            <p:cNvPr id="200" name=""/>
            <p:cNvSpPr/>
            <p:nvPr/>
          </p:nvSpPr>
          <p:spPr>
            <a:xfrm>
              <a:off x="5456160" y="147312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39080" y="1465200"/>
              <a:ext cx="0" cy="26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06800" y="96984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39680" y="96984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16520" y="147312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14000" y="227664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0840" y="2684520"/>
              <a:ext cx="75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7280" y="2684520"/>
              <a:ext cx="75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2680" y="3643200"/>
              <a:ext cx="18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31480" y="35575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8520" y="4133880"/>
              <a:ext cx="18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5680" y="1473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6600" y="1473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9720" y="197316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6600" y="1905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27640" y="233676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8400" y="298620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8080" y="29750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76720" y="4221000"/>
              <a:ext cx="363564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        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Buy Contract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Sell Contract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t Change                 +1  [(-1)-(-2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Other Transaction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ฐานะ                          </a:t>
              </a: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24960" y="2728800"/>
              <a:ext cx="77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ยกม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57960" y="3043080"/>
              <a:ext cx="201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ปฏิบัติตามสัญญ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793-376D-41E7-A005-F3A5837801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427640" y="1052640"/>
            <a:ext cx="0" cy="580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193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06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75360" y="404640"/>
            <a:ext cx="82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Rollover</a:t>
            </a:r>
            <a:r>
              <a:rPr b="1" lang="th-TH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or Cancel by Replacing with 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1680" y="1413000"/>
            <a:ext cx="3855600" cy="7075440"/>
            <a:chOff x="211680" y="1413000"/>
            <a:chExt cx="3855600" cy="7075440"/>
          </a:xfrm>
        </p:grpSpPr>
        <p:sp>
          <p:nvSpPr>
            <p:cNvPr id="226" name=""/>
            <p:cNvSpPr/>
            <p:nvPr/>
          </p:nvSpPr>
          <p:spPr>
            <a:xfrm>
              <a:off x="826920" y="2637000"/>
              <a:ext cx="1729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360" y="4005360"/>
              <a:ext cx="28796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Buy Contract      +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Sell Contract       -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t Change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Other Transaction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ฐานะ                         </a:t>
              </a: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6920" y="1916280"/>
              <a:ext cx="324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1280" y="1916280"/>
              <a:ext cx="0" cy="19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7560" y="141300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0800" y="141300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7280" y="191628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640" y="242100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96800" y="2843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33600" y="2843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03440" y="3370320"/>
              <a:ext cx="18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02240" y="3284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19280" y="386064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680" y="2924280"/>
              <a:ext cx="160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ทำสัญญาใหม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914000" y="969840"/>
            <a:ext cx="3798360" cy="7291800"/>
            <a:chOff x="4914000" y="969840"/>
            <a:chExt cx="3798360" cy="7291800"/>
          </a:xfrm>
        </p:grpSpPr>
        <p:sp>
          <p:nvSpPr>
            <p:cNvPr id="241" name=""/>
            <p:cNvSpPr/>
            <p:nvPr/>
          </p:nvSpPr>
          <p:spPr>
            <a:xfrm>
              <a:off x="5456160" y="147312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39080" y="1465200"/>
              <a:ext cx="0" cy="304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06800" y="96984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39680" y="96984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16520" y="147312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227664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0840" y="2684520"/>
              <a:ext cx="75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27280" y="2684520"/>
              <a:ext cx="75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2680" y="4014720"/>
              <a:ext cx="18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31480" y="3929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8520" y="4505400"/>
              <a:ext cx="18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5680" y="1473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6600" y="1473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19720" y="197316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6600" y="1905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27640" y="233676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14040" y="30924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6720" y="4510080"/>
              <a:ext cx="363564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        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Buy Contract        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Sell Contract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t Change                 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Other Transaction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ฐานะ                          </a:t>
              </a: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8360" y="3141720"/>
              <a:ext cx="123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ทำสัญญาใหม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2781360"/>
              <a:ext cx="12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ยกม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6600" y="3468600"/>
              <a:ext cx="152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ปฏิบัติตามสัญญ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38A-5B51-41C8-B896-6C1C227395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27640" y="1052640"/>
            <a:ext cx="0" cy="580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193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06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076720" y="1773360"/>
          <a:ext cx="3456000" cy="4044960"/>
        </p:xfrm>
        <a:graphic>
          <a:graphicData uri="http://schemas.openxmlformats.org/drawingml/2006/table">
            <a:tbl>
              <a:tblPr/>
              <a:tblGrid>
                <a:gridCol w="1152360"/>
                <a:gridCol w="1008000"/>
                <a:gridCol w="1295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Roll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nw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nc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ncel b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o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6203520" y="404640"/>
            <a:ext cx="33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ทุกประเภทธุร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0400" y="1413000"/>
            <a:ext cx="3926880" cy="7075440"/>
            <a:chOff x="140400" y="1413000"/>
            <a:chExt cx="3926880" cy="7075440"/>
          </a:xfrm>
        </p:grpSpPr>
        <p:sp>
          <p:nvSpPr>
            <p:cNvPr id="268" name=""/>
            <p:cNvSpPr/>
            <p:nvPr/>
          </p:nvSpPr>
          <p:spPr>
            <a:xfrm>
              <a:off x="826920" y="2637000"/>
              <a:ext cx="1729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4360" y="4005360"/>
              <a:ext cx="28796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Buy Contract      +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Sell Contract       -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t Change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Other Transaction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ฐานะ                         </a:t>
              </a: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6920" y="1916280"/>
              <a:ext cx="324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09840" y="190800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77560" y="141300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10800" y="141300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7280" y="191628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5640" y="249228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96800" y="2843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33600" y="2843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03440" y="3370320"/>
              <a:ext cx="18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02240" y="3284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19280" y="386064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400" y="2924280"/>
              <a:ext cx="160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ทำสัญญาใหม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249-0E76-44BC-B6CF-073C2345B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172360" y="5373720"/>
            <a:ext cx="503280" cy="287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8360" y="5373720"/>
            <a:ext cx="432000" cy="287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20000" y="5373720"/>
            <a:ext cx="431640" cy="287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5300640"/>
            <a:ext cx="576000" cy="4334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93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2400" y="1839960"/>
          <a:ext cx="8853480" cy="4340160"/>
        </p:xfrm>
        <a:graphic>
          <a:graphicData uri="http://schemas.openxmlformats.org/drawingml/2006/table">
            <a:tbl>
              <a:tblPr/>
              <a:tblGrid>
                <a:gridCol w="1244520"/>
                <a:gridCol w="914400"/>
                <a:gridCol w="1087200"/>
                <a:gridCol w="1035360"/>
                <a:gridCol w="1174680"/>
                <a:gridCol w="1050840"/>
                <a:gridCol w="1203480"/>
                <a:gridCol w="1143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ัญญาใหม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ล้างสัญญ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ัญญาใหม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ล้างสัญญ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Roll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Roll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nw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nw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nc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nc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ncel b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ncel b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o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o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hange 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ngsana New"/>
                          <a:ea typeface="Angsana New"/>
                        </a:rPr>
                        <a:t>6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ngsana New"/>
                          <a:ea typeface="Angsana New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05D-9C29-421D-AD4A-E381485E5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-193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1989000"/>
          <a:ext cx="7993080" cy="2687760"/>
        </p:xfrm>
        <a:graphic>
          <a:graphicData uri="http://schemas.openxmlformats.org/drawingml/2006/table">
            <a:tbl>
              <a:tblPr/>
              <a:tblGrid>
                <a:gridCol w="1722600"/>
                <a:gridCol w="2067480"/>
                <a:gridCol w="2205360"/>
                <a:gridCol w="19976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New Contra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้างสัญญ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eli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Change i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Bu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S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5A6-270D-4971-B000-E579937A7F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193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40360" y="4149720"/>
            <a:ext cx="464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rdia New"/>
                <a:ea typeface="Cordia New"/>
              </a:rPr>
              <a:t>Beginning Balance        -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rdia New"/>
                <a:ea typeface="Cordia New"/>
              </a:rPr>
              <a:t>New Buy Contract        +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rdia New"/>
                <a:ea typeface="Cordia New"/>
              </a:rPr>
              <a:t>New Sell Contract         -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rdia New"/>
                <a:ea typeface="Cordia New"/>
              </a:rPr>
              <a:t>Net Change in Contract +1.5 [(-6.5)-(-8.0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rdia New"/>
                <a:ea typeface="Cordia New"/>
              </a:rPr>
              <a:t>Error Transaction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rdia New"/>
                <a:ea typeface="Cordia New"/>
              </a:rPr>
              <a:t>Other Transaction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Cordia New"/>
                <a:cs typeface="Cordia New"/>
              </a:rPr>
              <a:t>ฐานะ                           </a:t>
            </a:r>
            <a:r>
              <a:rPr b="1" lang="th-TH" sz="2400" spc="-1" strike="noStrike">
                <a:solidFill>
                  <a:srgbClr val="3333cc"/>
                </a:solidFill>
                <a:latin typeface="Cordia New"/>
                <a:ea typeface="Cordia New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-54720" y="1623960"/>
            <a:ext cx="3782160" cy="3894480"/>
            <a:chOff x="-54720" y="1623960"/>
            <a:chExt cx="3782160" cy="3894480"/>
          </a:xfrm>
        </p:grpSpPr>
        <p:sp>
          <p:nvSpPr>
            <p:cNvPr id="293" name=""/>
            <p:cNvSpPr/>
            <p:nvPr/>
          </p:nvSpPr>
          <p:spPr>
            <a:xfrm>
              <a:off x="487440" y="2847960"/>
              <a:ext cx="1728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440" y="212724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70000" y="2118960"/>
              <a:ext cx="54000" cy="33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7720" y="162396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70960" y="162396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52200" y="212724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-54720" y="327960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83800" y="3270240"/>
              <a:ext cx="12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15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20600" y="3270240"/>
              <a:ext cx="12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2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63600" y="4514760"/>
              <a:ext cx="18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75480" y="442908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3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9440" y="500508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12480" y="3639960"/>
              <a:ext cx="78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+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-8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7800" y="3639960"/>
              <a:ext cx="88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+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-11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42000" y="2128680"/>
              <a:ext cx="6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6920" y="2116080"/>
              <a:ext cx="6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3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16000" y="248760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76920" y="2487600"/>
              <a:ext cx="6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6000" y="292068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11680" y="443196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0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06880" y="4937040"/>
              <a:ext cx="76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2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58920" y="544032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3924360" y="1125360"/>
          <a:ext cx="5003280" cy="2798640"/>
        </p:xfrm>
        <a:graphic>
          <a:graphicData uri="http://schemas.openxmlformats.org/drawingml/2006/table">
            <a:tbl>
              <a:tblPr/>
              <a:tblGrid>
                <a:gridCol w="1077480"/>
                <a:gridCol w="1294200"/>
                <a:gridCol w="1381320"/>
                <a:gridCol w="125028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New Contra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้างสัญญ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eli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Change i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Bu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S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990-5AF8-43CA-8D07-F5AB507D93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125360"/>
            <a:ext cx="896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               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รวมทุกสกุลเทียบเท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USD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Beginning Balance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XXX   (DS_FTS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Spot + FWD 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ณ ต้นวัน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+ New Buy Contract Amount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XX   (New+Rollover+Unwind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-  New Sell Contract Amount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Net Change in Contract Amount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XX   (No delivery+Cancel+Rollover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Error transaction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Other transaction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       X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(P/L + Conversion +Adjust R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ฐานะเงินตราต่างประเทศ       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XXX  (DS_FTS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Spot + FWD 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ณ สิ้นวัน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b2b2b2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Option Notional Amount           X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b2b2b2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Option Delta Amount     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     X    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 u="sng">
                <a:solidFill>
                  <a:srgbClr val="b2b2b2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Ending Balance         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XXX 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b2b2b2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Cash Position Amount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   XX </a:t>
            </a:r>
            <a:r>
              <a:rPr b="0" lang="en-US" sz="2200" spc="-1" strike="noStrike">
                <a:solidFill>
                  <a:srgbClr val="b2b2b2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76560" y="465300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ตัวอย่า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BAD-FAF1-4EEC-BD6F-D0DC0C635D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1680" y="1052640"/>
          <a:ext cx="3924360" cy="4870440"/>
        </p:xfrm>
        <a:graphic>
          <a:graphicData uri="http://schemas.openxmlformats.org/drawingml/2006/table">
            <a:tbl>
              <a:tblPr/>
              <a:tblGrid>
                <a:gridCol w="2195640"/>
                <a:gridCol w="863640"/>
                <a:gridCol w="865080"/>
              </a:tblGrid>
              <a:tr h="6328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030560" y="1069920"/>
          <a:ext cx="5022720" cy="5695920"/>
        </p:xfrm>
        <a:graphic>
          <a:graphicData uri="http://schemas.openxmlformats.org/drawingml/2006/table">
            <a:tbl>
              <a:tblPr/>
              <a:tblGrid>
                <a:gridCol w="3284280"/>
                <a:gridCol w="838440"/>
                <a:gridCol w="900000"/>
              </a:tblGrid>
              <a:tr h="5598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-181800" y="2205000"/>
            <a:ext cx="9001800" cy="4591080"/>
            <a:chOff x="-181800" y="2205000"/>
            <a:chExt cx="9001800" cy="4591080"/>
          </a:xfrm>
        </p:grpSpPr>
        <p:sp>
          <p:nvSpPr>
            <p:cNvPr id="324" name=""/>
            <p:cNvSpPr/>
            <p:nvPr/>
          </p:nvSpPr>
          <p:spPr>
            <a:xfrm>
              <a:off x="-181800" y="5940360"/>
              <a:ext cx="43534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=0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[(Spot+100)+Fwd(+200-300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979280" y="2205000"/>
              <a:ext cx="6840720" cy="3816360"/>
              <a:chOff x="1979280" y="2205000"/>
              <a:chExt cx="6840720" cy="3816360"/>
            </a:xfrm>
          </p:grpSpPr>
          <p:sp>
            <p:nvSpPr>
              <p:cNvPr id="326" name=""/>
              <p:cNvSpPr/>
              <p:nvPr/>
            </p:nvSpPr>
            <p:spPr>
              <a:xfrm>
                <a:off x="2268360" y="2276640"/>
                <a:ext cx="648000" cy="4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80360" y="2205000"/>
                <a:ext cx="1439640" cy="36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979280" y="2708280"/>
                <a:ext cx="360360" cy="331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979280" y="2565360"/>
                <a:ext cx="5545080" cy="338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1EF-337D-495B-AFF5-912DE8F547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1680" y="1052640"/>
          <a:ext cx="3924360" cy="4782960"/>
        </p:xfrm>
        <a:graphic>
          <a:graphicData uri="http://schemas.openxmlformats.org/drawingml/2006/table">
            <a:tbl>
              <a:tblPr/>
              <a:tblGrid>
                <a:gridCol w="2195640"/>
                <a:gridCol w="863640"/>
                <a:gridCol w="865080"/>
              </a:tblGrid>
              <a:tr h="6328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030560" y="1069920"/>
          <a:ext cx="5022720" cy="5695920"/>
        </p:xfrm>
        <a:graphic>
          <a:graphicData uri="http://schemas.openxmlformats.org/drawingml/2006/table">
            <a:tbl>
              <a:tblPr/>
              <a:tblGrid>
                <a:gridCol w="3284280"/>
                <a:gridCol w="838440"/>
                <a:gridCol w="900000"/>
              </a:tblGrid>
              <a:tr h="5598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pSp>
        <p:nvGrpSpPr>
          <p:cNvPr id="333" name=""/>
          <p:cNvGrpSpPr/>
          <p:nvPr/>
        </p:nvGrpSpPr>
        <p:grpSpPr>
          <a:xfrm>
            <a:off x="-853200" y="2935440"/>
            <a:ext cx="8909640" cy="4035600"/>
            <a:chOff x="-853200" y="2935440"/>
            <a:chExt cx="8909640" cy="4035600"/>
          </a:xfrm>
        </p:grpSpPr>
        <p:sp>
          <p:nvSpPr>
            <p:cNvPr id="334" name=""/>
            <p:cNvSpPr/>
            <p:nvPr/>
          </p:nvSpPr>
          <p:spPr>
            <a:xfrm>
              <a:off x="-853200" y="5800680"/>
              <a:ext cx="595656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New Buy Contract Amount=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 </a:t>
              </a: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(60+20)+(10-3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7160" y="2935440"/>
              <a:ext cx="619200" cy="56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80360" y="3357720"/>
              <a:ext cx="647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936800" y="3510000"/>
              <a:ext cx="372960" cy="23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936440" y="3583080"/>
              <a:ext cx="554364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40000" y="3573360"/>
              <a:ext cx="647640" cy="4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08800" y="5238720"/>
              <a:ext cx="647640" cy="4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936440" y="3989520"/>
              <a:ext cx="617400" cy="175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079360" y="5527800"/>
              <a:ext cx="53290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127-A699-49D2-8DD0-3AE23EC16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31680" y="1052640"/>
          <a:ext cx="3924360" cy="4749840"/>
        </p:xfrm>
        <a:graphic>
          <a:graphicData uri="http://schemas.openxmlformats.org/drawingml/2006/table">
            <a:tbl>
              <a:tblPr/>
              <a:tblGrid>
                <a:gridCol w="2195640"/>
                <a:gridCol w="863640"/>
                <a:gridCol w="865080"/>
              </a:tblGrid>
              <a:tr h="6328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030560" y="1069920"/>
          <a:ext cx="5022720" cy="5695920"/>
        </p:xfrm>
        <a:graphic>
          <a:graphicData uri="http://schemas.openxmlformats.org/drawingml/2006/table">
            <a:tbl>
              <a:tblPr/>
              <a:tblGrid>
                <a:gridCol w="3284280"/>
                <a:gridCol w="838440"/>
                <a:gridCol w="900000"/>
              </a:tblGrid>
              <a:tr h="5598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pSp>
        <p:nvGrpSpPr>
          <p:cNvPr id="346" name=""/>
          <p:cNvGrpSpPr/>
          <p:nvPr/>
        </p:nvGrpSpPr>
        <p:grpSpPr>
          <a:xfrm>
            <a:off x="-1139040" y="2997360"/>
            <a:ext cx="10030680" cy="3929400"/>
            <a:chOff x="-1139040" y="2997360"/>
            <a:chExt cx="10030680" cy="3929400"/>
          </a:xfrm>
        </p:grpSpPr>
        <p:sp>
          <p:nvSpPr>
            <p:cNvPr id="347" name=""/>
            <p:cNvSpPr/>
            <p:nvPr/>
          </p:nvSpPr>
          <p:spPr>
            <a:xfrm>
              <a:off x="-1139040" y="5756400"/>
              <a:ext cx="6238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New Sell Contract Amount=-80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 </a:t>
              </a: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(Spot=50+Fwd=3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9280" y="2997360"/>
              <a:ext cx="647640" cy="43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44000" y="3284640"/>
              <a:ext cx="647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908000" y="3645000"/>
              <a:ext cx="633600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907640" y="3429000"/>
              <a:ext cx="129564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831-65DE-4E17-A198-D00DDE48A8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52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อกสารที่ได้รับประกอบด้ว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2276640"/>
            <a:ext cx="7489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Data File Documen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Data File Manu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6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อกสาร </a:t>
            </a:r>
            <a:r>
              <a:rPr b="1" lang="en-US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resent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477120" y="25909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5909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715000" y="3429000"/>
          <a:ext cx="914400" cy="71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429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C86-359D-4A2D-A8F0-0BD12B911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1680" y="1052640"/>
          <a:ext cx="3924360" cy="4749840"/>
        </p:xfrm>
        <a:graphic>
          <a:graphicData uri="http://schemas.openxmlformats.org/drawingml/2006/table">
            <a:tbl>
              <a:tblPr/>
              <a:tblGrid>
                <a:gridCol w="2195640"/>
                <a:gridCol w="863640"/>
                <a:gridCol w="865080"/>
              </a:tblGrid>
              <a:tr h="6328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30560" y="1069920"/>
          <a:ext cx="5022720" cy="5695920"/>
        </p:xfrm>
        <a:graphic>
          <a:graphicData uri="http://schemas.openxmlformats.org/drawingml/2006/table">
            <a:tbl>
              <a:tblPr/>
              <a:tblGrid>
                <a:gridCol w="3284280"/>
                <a:gridCol w="838440"/>
                <a:gridCol w="900000"/>
              </a:tblGrid>
              <a:tr h="5598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-365760" y="4005360"/>
            <a:ext cx="4705560" cy="2597400"/>
            <a:chOff x="-365760" y="4005360"/>
            <a:chExt cx="4705560" cy="2597400"/>
          </a:xfrm>
        </p:grpSpPr>
        <p:sp>
          <p:nvSpPr>
            <p:cNvPr id="356" name=""/>
            <p:cNvSpPr/>
            <p:nvPr/>
          </p:nvSpPr>
          <p:spPr>
            <a:xfrm>
              <a:off x="-365760" y="6021360"/>
              <a:ext cx="470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Other transaction=  +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68360" y="4005360"/>
              <a:ext cx="1366920" cy="43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835280" y="4437000"/>
              <a:ext cx="720720" cy="165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B08-F1CF-4296-9F92-A65C5E3043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1680" y="1052640"/>
          <a:ext cx="3924360" cy="4749840"/>
        </p:xfrm>
        <a:graphic>
          <a:graphicData uri="http://schemas.openxmlformats.org/drawingml/2006/table">
            <a:tbl>
              <a:tblPr/>
              <a:tblGrid>
                <a:gridCol w="2195640"/>
                <a:gridCol w="863640"/>
                <a:gridCol w="865080"/>
              </a:tblGrid>
              <a:tr h="6328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030560" y="1069920"/>
          <a:ext cx="5022720" cy="5695920"/>
        </p:xfrm>
        <a:graphic>
          <a:graphicData uri="http://schemas.openxmlformats.org/drawingml/2006/table">
            <a:tbl>
              <a:tblPr/>
              <a:tblGrid>
                <a:gridCol w="3284280"/>
                <a:gridCol w="838440"/>
                <a:gridCol w="900000"/>
              </a:tblGrid>
              <a:tr h="5598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pSp>
        <p:nvGrpSpPr>
          <p:cNvPr id="362" name=""/>
          <p:cNvGrpSpPr/>
          <p:nvPr/>
        </p:nvGrpSpPr>
        <p:grpSpPr>
          <a:xfrm>
            <a:off x="-725760" y="3716280"/>
            <a:ext cx="8682480" cy="2886480"/>
            <a:chOff x="-725760" y="3716280"/>
            <a:chExt cx="8682480" cy="2886480"/>
          </a:xfrm>
        </p:grpSpPr>
        <p:sp>
          <p:nvSpPr>
            <p:cNvPr id="363" name=""/>
            <p:cNvSpPr/>
            <p:nvPr/>
          </p:nvSpPr>
          <p:spPr>
            <a:xfrm>
              <a:off x="-725760" y="6021360"/>
              <a:ext cx="545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Net Change in Contract= 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36000" y="3716280"/>
              <a:ext cx="720720" cy="4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834920" y="4149720"/>
              <a:ext cx="5545080" cy="19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7CD-C768-4FE7-8DFE-FC8D888B22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31680" y="1052640"/>
          <a:ext cx="3924360" cy="4749840"/>
        </p:xfrm>
        <a:graphic>
          <a:graphicData uri="http://schemas.openxmlformats.org/drawingml/2006/table">
            <a:tbl>
              <a:tblPr/>
              <a:tblGrid>
                <a:gridCol w="2195640"/>
                <a:gridCol w="863640"/>
                <a:gridCol w="865080"/>
              </a:tblGrid>
              <a:tr h="6328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030560" y="1069920"/>
          <a:ext cx="5022720" cy="5695920"/>
        </p:xfrm>
        <a:graphic>
          <a:graphicData uri="http://schemas.openxmlformats.org/drawingml/2006/table">
            <a:tbl>
              <a:tblPr/>
              <a:tblGrid>
                <a:gridCol w="3284280"/>
                <a:gridCol w="838440"/>
                <a:gridCol w="900000"/>
              </a:tblGrid>
              <a:tr h="5598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pSp>
        <p:nvGrpSpPr>
          <p:cNvPr id="369" name=""/>
          <p:cNvGrpSpPr/>
          <p:nvPr/>
        </p:nvGrpSpPr>
        <p:grpSpPr>
          <a:xfrm>
            <a:off x="149400" y="5084640"/>
            <a:ext cx="8672400" cy="1584360"/>
            <a:chOff x="149400" y="5084640"/>
            <a:chExt cx="8672400" cy="1584360"/>
          </a:xfrm>
        </p:grpSpPr>
        <p:sp>
          <p:nvSpPr>
            <p:cNvPr id="370" name=""/>
            <p:cNvSpPr/>
            <p:nvPr/>
          </p:nvSpPr>
          <p:spPr>
            <a:xfrm>
              <a:off x="149400" y="6021360"/>
              <a:ext cx="371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ff0066"/>
                  </a:solidFill>
                  <a:latin typeface="Cordia New"/>
                  <a:cs typeface="Cordia New"/>
                </a:rPr>
                <a:t>ฐานะ ณ สิ้นวัน </a:t>
              </a: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=  +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01080" y="6237360"/>
              <a:ext cx="720720" cy="43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3708360" y="6308640"/>
              <a:ext cx="439272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68360" y="5084640"/>
              <a:ext cx="721080" cy="4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00360" y="5516640"/>
              <a:ext cx="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371-233C-46AA-B06A-5F2592309F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143000"/>
            <a:ext cx="8893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               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รวมทุกสกุลเทียบเท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USD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Beginning Balance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0  [(Spot+100)+(Forward-100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+ New Buy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87   (Spot=60+Fwd=20)+(spot=10-Delivery=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-  New Sell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-80  (Spot=50+Fwd=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Angsana New"/>
                <a:ea typeface="Angsana New"/>
              </a:rPr>
              <a:t>Net Change in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-7   (No delivery+Cancel+Rollover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 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Error transaction                         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ther transaction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  +30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(P/L + Conversion +Adjust R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ฐานะเงินตราต่างประเทศ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+30   [(Spot+140)+(Forward-110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ption Notional Amount            -1    (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แบบรายงานฐานะรวมข้อ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7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สมมติมีสัญญา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Buy Call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ของลูกค้า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=1.0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ption Delta Amount    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+.5    (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แบบรายงานฐานะรวมข้อ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8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สมมติค่าเดลต้า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=.5 *1.0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ล้าน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=0.5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ล้าน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Ending Balance       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29.5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Cash Position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XX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(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ถ้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Hedge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Position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ด้วยค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NPV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Cash Position =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ดลต้า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NP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                                       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ถ้าไม่ได้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Hedge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Position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ด้วยค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NPV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Cash Position= Ending Balance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C3D-EBBD-4F09-A549-4DE39953BD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308720" y="5084640"/>
            <a:ext cx="648000" cy="505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5157720"/>
            <a:ext cx="648000" cy="3589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3080" y="1143000"/>
          <a:ext cx="8967600" cy="4573440"/>
        </p:xfrm>
        <a:graphic>
          <a:graphicData uri="http://schemas.openxmlformats.org/drawingml/2006/table">
            <a:tbl>
              <a:tblPr/>
              <a:tblGrid>
                <a:gridCol w="3481200"/>
                <a:gridCol w="1040040"/>
                <a:gridCol w="888840"/>
                <a:gridCol w="889200"/>
                <a:gridCol w="890280"/>
                <a:gridCol w="889200"/>
                <a:gridCol w="88884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GB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530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9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6268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ิติบุคคลรับอนุญา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9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530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-1688760" y="5791320"/>
            <a:ext cx="126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กำหนดให้อัตราแลกเปลี่ยนดอลลาร์สรอ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ต่อ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หน่วยสกุลเงินปอนด์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=1.985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3800" y="2205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9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01960" y="27907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9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81440" y="45226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9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2200" y="39337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9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32200" y="28526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49.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48760" y="5013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7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3640" y="45086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99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694-349B-404F-A5D7-53935BC689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443640" y="2133720"/>
            <a:ext cx="14414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43640" y="2060640"/>
            <a:ext cx="144144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9280" y="457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052640"/>
          <a:ext cx="9143640" cy="5635440"/>
        </p:xfrm>
        <a:graphic>
          <a:graphicData uri="http://schemas.openxmlformats.org/drawingml/2006/table">
            <a:tbl>
              <a:tblPr/>
              <a:tblGrid>
                <a:gridCol w="3526920"/>
                <a:gridCol w="1050120"/>
                <a:gridCol w="902160"/>
                <a:gridCol w="898920"/>
                <a:gridCol w="898200"/>
                <a:gridCol w="900000"/>
                <a:gridCol w="96732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GB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3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89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2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3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3521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0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6508440" y="1989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9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86120" y="55468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9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40560" y="198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3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58200" y="55483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3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17800" y="60674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9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5B9-5A24-4BA9-B923-49269F75D8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411280" y="2276640"/>
            <a:ext cx="72072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0" y="1055520"/>
          <a:ext cx="4176720" cy="3967200"/>
        </p:xfrm>
        <a:graphic>
          <a:graphicData uri="http://schemas.openxmlformats.org/drawingml/2006/table">
            <a:tbl>
              <a:tblPr/>
              <a:tblGrid>
                <a:gridCol w="2376360"/>
                <a:gridCol w="857160"/>
                <a:gridCol w="94320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9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30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9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4284720" y="1096920"/>
          <a:ext cx="4859280" cy="5410080"/>
        </p:xfrm>
        <a:graphic>
          <a:graphicData uri="http://schemas.openxmlformats.org/drawingml/2006/table">
            <a:tbl>
              <a:tblPr/>
              <a:tblGrid>
                <a:gridCol w="3176640"/>
                <a:gridCol w="811080"/>
                <a:gridCol w="87156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3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3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-946440" y="2133720"/>
            <a:ext cx="9968040" cy="4359960"/>
            <a:chOff x="-946440" y="2133720"/>
            <a:chExt cx="9968040" cy="4359960"/>
          </a:xfrm>
        </p:grpSpPr>
        <p:sp>
          <p:nvSpPr>
            <p:cNvPr id="405" name=""/>
            <p:cNvSpPr/>
            <p:nvPr/>
          </p:nvSpPr>
          <p:spPr>
            <a:xfrm>
              <a:off x="2484360" y="2276640"/>
              <a:ext cx="647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24720" y="2133720"/>
              <a:ext cx="149688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763640" y="2637000"/>
              <a:ext cx="1008000" cy="26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63280" y="2565360"/>
              <a:ext cx="5761080" cy="27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-946440" y="5226120"/>
              <a:ext cx="605880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=39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[(Spot+119.85)+(Forward= (239.7-319.85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9F1-77C0-4090-B98F-5ADF3BC3F9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411280" y="2276640"/>
            <a:ext cx="72072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0" y="1055520"/>
          <a:ext cx="4176720" cy="3967200"/>
        </p:xfrm>
        <a:graphic>
          <a:graphicData uri="http://schemas.openxmlformats.org/drawingml/2006/table">
            <a:tbl>
              <a:tblPr/>
              <a:tblGrid>
                <a:gridCol w="2376360"/>
                <a:gridCol w="857160"/>
                <a:gridCol w="94320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9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30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9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284720" y="1096920"/>
          <a:ext cx="4859280" cy="5410080"/>
        </p:xfrm>
        <a:graphic>
          <a:graphicData uri="http://schemas.openxmlformats.org/drawingml/2006/table">
            <a:tbl>
              <a:tblPr/>
              <a:tblGrid>
                <a:gridCol w="3176640"/>
                <a:gridCol w="811080"/>
                <a:gridCol w="87156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3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3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-1087560" y="2708280"/>
            <a:ext cx="9186840" cy="3513600"/>
            <a:chOff x="-1087560" y="2708280"/>
            <a:chExt cx="9186840" cy="3513600"/>
          </a:xfrm>
        </p:grpSpPr>
        <p:sp>
          <p:nvSpPr>
            <p:cNvPr id="416" name=""/>
            <p:cNvSpPr/>
            <p:nvPr/>
          </p:nvSpPr>
          <p:spPr>
            <a:xfrm>
              <a:off x="-1087560" y="5153040"/>
              <a:ext cx="6339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New Buy Contract Amount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  </a:t>
              </a: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+129.62 (Spot=109.62+Fwd=2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84360" y="2708280"/>
              <a:ext cx="647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51640" y="3141720"/>
              <a:ext cx="647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268000" y="3068640"/>
              <a:ext cx="574920" cy="22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268360" y="3357720"/>
              <a:ext cx="5183280" cy="19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823-948F-48BB-AFEA-6006CA4F89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411280" y="2276640"/>
            <a:ext cx="72072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0" y="1055520"/>
          <a:ext cx="4176720" cy="3967200"/>
        </p:xfrm>
        <a:graphic>
          <a:graphicData uri="http://schemas.openxmlformats.org/drawingml/2006/table">
            <a:tbl>
              <a:tblPr/>
              <a:tblGrid>
                <a:gridCol w="2376360"/>
                <a:gridCol w="857160"/>
                <a:gridCol w="94320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9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30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9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284720" y="1096920"/>
          <a:ext cx="4859280" cy="5410080"/>
        </p:xfrm>
        <a:graphic>
          <a:graphicData uri="http://schemas.openxmlformats.org/drawingml/2006/table">
            <a:tbl>
              <a:tblPr/>
              <a:tblGrid>
                <a:gridCol w="3176640"/>
                <a:gridCol w="811080"/>
                <a:gridCol w="87156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3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3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0" y="5229360"/>
            <a:ext cx="417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1120" y="5433840"/>
            <a:ext cx="279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-696240" y="2781360"/>
            <a:ext cx="9587880" cy="3762720"/>
            <a:chOff x="-696240" y="2781360"/>
            <a:chExt cx="9587880" cy="3762720"/>
          </a:xfrm>
        </p:grpSpPr>
        <p:sp>
          <p:nvSpPr>
            <p:cNvPr id="429" name=""/>
            <p:cNvSpPr/>
            <p:nvPr/>
          </p:nvSpPr>
          <p:spPr>
            <a:xfrm>
              <a:off x="3276720" y="2781360"/>
              <a:ext cx="647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244000" y="3141720"/>
              <a:ext cx="64764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268000" y="3141720"/>
              <a:ext cx="1079640" cy="21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268000" y="3429000"/>
              <a:ext cx="597564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6240" y="5373720"/>
              <a:ext cx="577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New Sell Contract Amount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 </a:t>
              </a: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-99.85  (Spot=69.85+Fwd=3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8A4-E47E-422B-98D0-8E17DE339C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411280" y="2276640"/>
            <a:ext cx="72072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0" y="1055520"/>
          <a:ext cx="4176720" cy="3967200"/>
        </p:xfrm>
        <a:graphic>
          <a:graphicData uri="http://schemas.openxmlformats.org/drawingml/2006/table">
            <a:tbl>
              <a:tblPr/>
              <a:tblGrid>
                <a:gridCol w="2376360"/>
                <a:gridCol w="857160"/>
                <a:gridCol w="94320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9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30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9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4284720" y="1096920"/>
          <a:ext cx="4859280" cy="5410080"/>
        </p:xfrm>
        <a:graphic>
          <a:graphicData uri="http://schemas.openxmlformats.org/drawingml/2006/table">
            <a:tbl>
              <a:tblPr/>
              <a:tblGrid>
                <a:gridCol w="3176640"/>
                <a:gridCol w="811080"/>
                <a:gridCol w="87156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3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3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0" y="5229360"/>
            <a:ext cx="417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120" y="5433840"/>
            <a:ext cx="279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09160" y="3645000"/>
            <a:ext cx="3888720" cy="2868840"/>
            <a:chOff x="209160" y="3645000"/>
            <a:chExt cx="3888720" cy="2868840"/>
          </a:xfrm>
        </p:grpSpPr>
        <p:sp>
          <p:nvSpPr>
            <p:cNvPr id="442" name=""/>
            <p:cNvSpPr/>
            <p:nvPr/>
          </p:nvSpPr>
          <p:spPr>
            <a:xfrm>
              <a:off x="2411280" y="3645000"/>
              <a:ext cx="129708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68360" y="4005360"/>
              <a:ext cx="2160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9160" y="5445000"/>
              <a:ext cx="388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Other transaction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Cordia New"/>
                  <a:ea typeface="Cordia New"/>
                </a:rPr>
                <a:t>+59.78   (+69.78-1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837-67F2-45D5-8DF9-683B039B9D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B10-9835-43DD-BF44-F4AA02F438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411280" y="2276640"/>
            <a:ext cx="720720" cy="36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1055520"/>
          <a:ext cx="4176720" cy="3967200"/>
        </p:xfrm>
        <a:graphic>
          <a:graphicData uri="http://schemas.openxmlformats.org/drawingml/2006/table">
            <a:tbl>
              <a:tblPr/>
              <a:tblGrid>
                <a:gridCol w="2376360"/>
                <a:gridCol w="857160"/>
                <a:gridCol w="94320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ทันท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9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30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อื่น ๆ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9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22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รวม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9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736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4284720" y="1096920"/>
          <a:ext cx="4859280" cy="5410080"/>
        </p:xfrm>
        <a:graphic>
          <a:graphicData uri="http://schemas.openxmlformats.org/drawingml/2006/table">
            <a:tbl>
              <a:tblPr/>
              <a:tblGrid>
                <a:gridCol w="3176640"/>
                <a:gridCol w="811080"/>
                <a:gridCol w="871560"/>
              </a:tblGrid>
              <a:tr h="10472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S_F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0" rIns="16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=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Browallia New"/>
                          <a:cs typeface="Browallia New"/>
                        </a:rPr>
                        <a:t>ธุรกิจล่วงหน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มา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3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cs typeface="Browallia New"/>
                        </a:rPr>
                        <a:t>ลูกค้า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Browallia New"/>
                          <a:ea typeface="Browallia New"/>
                        </a:rPr>
                        <a:t>(129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284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996633"/>
                          </a:solidFill>
                          <a:latin typeface="Browallia New"/>
                          <a:cs typeface="Browallia New"/>
                        </a:rPr>
                        <a:t>ตัวแทนรับอนุญา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ำสัญญาใหม่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3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cs typeface="Browallia New"/>
                        </a:rPr>
                        <a:t>ปฏิบัติตามสัญญา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(1290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Browallia New"/>
                          <a:ea typeface="Browallia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332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อดคงเหลือยกไป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06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3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76600"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ฐานะล่วงหน้าสุทธิ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12906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62000" rIns="162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50" name=""/>
          <p:cNvSpPr/>
          <p:nvPr/>
        </p:nvSpPr>
        <p:spPr>
          <a:xfrm>
            <a:off x="0" y="5229360"/>
            <a:ext cx="417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120" y="5433840"/>
            <a:ext cx="279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-1004400" y="4581360"/>
            <a:ext cx="9969120" cy="1800360"/>
            <a:chOff x="-1004400" y="4581360"/>
            <a:chExt cx="9969120" cy="1800360"/>
          </a:xfrm>
        </p:grpSpPr>
        <p:sp>
          <p:nvSpPr>
            <p:cNvPr id="453" name=""/>
            <p:cNvSpPr/>
            <p:nvPr/>
          </p:nvSpPr>
          <p:spPr>
            <a:xfrm>
              <a:off x="2411280" y="4581360"/>
              <a:ext cx="79236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-1004400" y="5516640"/>
              <a:ext cx="6023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500" spc="-1" strike="noStrike">
                  <a:solidFill>
                    <a:srgbClr val="0000ff"/>
                  </a:solidFill>
                  <a:latin typeface="Cordia New"/>
                  <a:cs typeface="Cordia New"/>
                </a:rPr>
                <a:t>ฐานะเงินตราต่างประเทศ</a:t>
              </a:r>
              <a:r>
                <a:rPr b="0" lang="en-US" sz="2500" spc="-1" strike="noStrike">
                  <a:solidFill>
                    <a:srgbClr val="0000ff"/>
                  </a:solidFill>
                  <a:latin typeface="Cordia New"/>
                  <a:ea typeface="Cordia New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500" spc="-1" strike="noStrike">
                  <a:solidFill>
                    <a:srgbClr val="0000ff"/>
                  </a:solidFill>
                  <a:latin typeface="Cordia New"/>
                  <a:ea typeface="Cordia New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Cordia New"/>
                  <a:ea typeface="Cordia New"/>
                </a:rPr>
                <a:t>+129.25[(Spot+219.4)+(Forward-90.15)]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172360" y="6021360"/>
              <a:ext cx="79236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3276360" y="5876640"/>
              <a:ext cx="489564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87640" y="4941720"/>
              <a:ext cx="0" cy="5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EEB-3A0B-40EA-9B3D-877BF050DA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2400" y="1143000"/>
            <a:ext cx="8893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               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รวมทุกสกุลเทียบเท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USD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Beginning Balance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+39.7  [(Spot+119.85)+(Forward= (239.7-319.85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+ New Buy Contract Amount   +129.62   (Spot=109.62+Fwd=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-  New Sell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-99.85  (Spot=69.85+Fwd=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Angsana New"/>
                <a:ea typeface="Angsana New"/>
              </a:rPr>
              <a:t>Net Change in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0   (No delivery+Cancel+Rollover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 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Error transaction                         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ther transaction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+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59.78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(+69.78-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ฐานะเงินตราต่างประเทศ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+129.25   [(Spot+219.4)+(Forward-90.15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ption Notional Amount            -1    (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แบบรายงานฐานะรวมข้อ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7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สมมติมีสัญญา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Buy Call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ของลูกค้า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=1.0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ption Delta Amount    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+.5    (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แบบรายงานฐานะรวมข้อ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8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สมมติค่าเดลต้า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=.5 *1.0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ล้าน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=.5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ล้าน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Ending Balance       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+128.75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Cash Position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+128.75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(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ถ้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Hedge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Position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ด้วยค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NPV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Cash Position =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ดลต้า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NP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                                       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ถ้าไม่ได้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Hedge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Position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ด้วยค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NPV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Cash Position= Ending Balance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934-912B-49AC-B465-8C55DDAF8B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515-C3BD-45DB-953C-C1DC07FA23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สรุป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1125360"/>
            <a:ext cx="896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               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รวมทุกสกุลเทียบเท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USD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Beginning Balance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XXX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(DS_FTS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Spot + FWD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ณ ต้นวัน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หรือ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&lt;=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ฐง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.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ข้อ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1+6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+ New Buy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XX   (New+Rollover+Unwind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-  New Sell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Angsana New"/>
                <a:ea typeface="Angsana New"/>
              </a:rPr>
              <a:t>Net Change in Contract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XX   (No delivery+Cancel+Rollover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Error transaction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 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ther transaction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       X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(P/L + Conversion +Adjust R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ฐานะเงินตราต่างประเทศ          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XXX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(DS_FTS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Spot + FWD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ณ สิ้นวัน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หรือ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&lt;=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ฐง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.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ข้อ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1+6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ption Notional Amount           XX    (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แบบรายงานฐานะรวมข้อ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Option Delta Amount    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X    (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cs typeface="Angsana New"/>
              </a:rPr>
              <a:t>แบบรายงานฐานะรวมข้อ </a:t>
            </a:r>
            <a:r>
              <a:rPr b="0" lang="th-TH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Ending Balance        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XXX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ff0066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Cash Position Amount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  XX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877080" y="4508640"/>
          <a:ext cx="731880" cy="66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4508640"/>
                    <a:ext cx="7318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675-9AD5-4DC3-85E4-CC021BC17A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C97-F46F-4626-8ED4-0F0E0C4131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061800" y="476280"/>
            <a:ext cx="67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68120" y="1049400"/>
          <a:ext cx="8804520" cy="5656320"/>
        </p:xfrm>
        <a:graphic>
          <a:graphicData uri="http://schemas.openxmlformats.org/drawingml/2006/table">
            <a:tbl>
              <a:tblPr/>
              <a:tblGrid>
                <a:gridCol w="3483000"/>
                <a:gridCol w="532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rganization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หัสสถาบันการเงินผู้จัดส่งข้อมู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ta Set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วันที่ของชุดข้อมู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Begin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ฐานะเงินตราต่างประเทศ ณ ต้นวันรวมทุกสกุลเทียบเท่า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New Buy Contra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ำนวนเทียบเท่า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ของสัญญาซื้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New Sell Contra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ำนวนเทียบเท่า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ของสัญญา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Net Change in Contra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ำนวนเทียบเท่า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สุทธิของการเปลี่ยนแปลงฐาน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Error Trans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ำนวนเทียบเท่า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เกิดจากรายงานผิดพลา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Other Trans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ำนวนเทียบเท่า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ของรายการอื่น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ption Notional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ทียบเท่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องสัญญ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urrency O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647-5362-4F5F-BF52-6FF03C640A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61800" y="476280"/>
            <a:ext cx="67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68120" y="1233360"/>
          <a:ext cx="8804520" cy="2316240"/>
        </p:xfrm>
        <a:graphic>
          <a:graphicData uri="http://schemas.openxmlformats.org/drawingml/2006/table">
            <a:tbl>
              <a:tblPr/>
              <a:tblGrid>
                <a:gridCol w="3483000"/>
                <a:gridCol w="53215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ption Delta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ทียบเท่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อง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sh position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องสัญญ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urrency O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sh Position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งินเทียบเท่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อง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ash Position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องสัญญ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urrency Option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วมกับค่าปัจจุบันของสัญญาอื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F5B-6DCC-4FDF-A7D7-CCEED24237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808-5D4C-4BA7-A462-695E9AD381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08000" y="476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ข้อมูลการซื้อขายเงินตราต่างประเทศตั้งแต่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1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M US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79280" y="1058760"/>
          <a:ext cx="8785440" cy="5710320"/>
        </p:xfrm>
        <a:graphic>
          <a:graphicData uri="http://schemas.openxmlformats.org/drawingml/2006/table">
            <a:tbl>
              <a:tblPr/>
              <a:tblGrid>
                <a:gridCol w="3168720"/>
                <a:gridCol w="56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rganization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หัสสถาบันการเงินผู้จัดส่งข้อมู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ta Set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วันที่ของชุดข้อมู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rade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วันที่ตกลงซื้อขา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66"/>
                          </a:solidFill>
                          <a:latin typeface="Angsana New"/>
                          <a:ea typeface="Angsana New"/>
                        </a:rPr>
                        <a:t>Counter Party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cc66"/>
                          </a:solidFill>
                          <a:latin typeface="Angsana New"/>
                          <a:cs typeface="Angsana New"/>
                        </a:rPr>
                        <a:t>ชื่อผู้ทำธุรกร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66"/>
                          </a:solidFill>
                          <a:latin typeface="Angsana New"/>
                          <a:ea typeface="Angsana New"/>
                        </a:rPr>
                        <a:t>Counter Party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cc66"/>
                          </a:solidFill>
                          <a:latin typeface="Angsana New"/>
                          <a:cs typeface="Angsana New"/>
                        </a:rPr>
                        <a:t>รหัสมาตรฐานของผู้ทำธุรกร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66"/>
                          </a:solidFill>
                          <a:latin typeface="Angsana New"/>
                          <a:ea typeface="Angsana New"/>
                        </a:rPr>
                        <a:t>Counter Party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cc66"/>
                          </a:solidFill>
                          <a:latin typeface="Angsana New"/>
                          <a:cs typeface="Angsana New"/>
                        </a:rPr>
                        <a:t>ประเภทของผู้ทำธุรกร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66"/>
                          </a:solidFill>
                          <a:latin typeface="Angsana New"/>
                          <a:ea typeface="Angsana New"/>
                        </a:rPr>
                        <a:t>Country of Non-res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cc66"/>
                          </a:solidFill>
                          <a:latin typeface="Angsana New"/>
                          <a:cs typeface="Angsana New"/>
                        </a:rPr>
                        <a:t>รหัสประเทศในกรณีผู้ทำธุรกรรมเป็น </a:t>
                      </a:r>
                      <a:r>
                        <a:rPr b="0" lang="en-US" sz="2800" spc="-1" strike="noStrike">
                          <a:solidFill>
                            <a:srgbClr val="00cc66"/>
                          </a:solidFill>
                          <a:latin typeface="Angsana New"/>
                          <a:ea typeface="Angsana New"/>
                        </a:rPr>
                        <a:t>Non-res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I Arrangement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ลขที่สัญญาของธุรกร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Arrangement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ประเภทธุรกร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Leg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Buy/S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urrency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หัสสกุลเงิ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F10-66F7-41EE-B656-9D529B1FF7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908000" y="476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ข้อมูลการซื้อขายเงินตราต่างประเทศตั้งแต่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1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M US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82520" y="1085760"/>
          <a:ext cx="8785440" cy="5693040"/>
        </p:xfrm>
        <a:graphic>
          <a:graphicData uri="http://schemas.openxmlformats.org/drawingml/2006/table">
            <a:tbl>
              <a:tblPr/>
              <a:tblGrid>
                <a:gridCol w="3884760"/>
                <a:gridCol w="49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Start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วันที่สัญญามีผลบังคับใช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Maturity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วันครบกำหน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Exchange Rat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ัตราแลกเปลี่ยน เช่น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Spot    Base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Exchange Rat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ัตราแลกเปลี่ยน เช่น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Forward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 Equivalen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งินเทียบเท่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อง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otional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ption Delta USD Equivalen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งินเทียบเท่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องมูลค่าเดลต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ransaction Purpose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วัตถุประสงค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Purpose Rema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ะบุรายละเอียดของวัตถุประสงค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Related FI AR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ระบุเลขที่สัญญาที่เกี่ยวข้อ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Arrangement Rema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ระบุรายละเอียดการทำธุรกร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ngsana New"/>
                          <a:ea typeface="Angsana New"/>
                        </a:rPr>
                        <a:t>Delete Fl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3300"/>
                          </a:solidFill>
                          <a:latin typeface="Angsana New"/>
                          <a:cs typeface="Angsana New"/>
                        </a:rPr>
                        <a:t>มีค่า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ngsana New"/>
                          <a:ea typeface="Angsana New"/>
                        </a:rPr>
                        <a:t>=1 </a:t>
                      </a:r>
                      <a:r>
                        <a:rPr b="0" lang="th-TH" sz="2800" spc="-1" strike="noStrike">
                          <a:solidFill>
                            <a:srgbClr val="ff3300"/>
                          </a:solidFill>
                          <a:latin typeface="Angsana New"/>
                          <a:cs typeface="Angsana New"/>
                        </a:rPr>
                        <a:t>เมื่อต้องการลบสัญญาที่ได้จัดส่งมาแล้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9B0-F390-43E0-A915-A3F94A49ED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B34-79EA-4D4D-8569-8791DB7F5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1CA-3459-49D3-9D12-8E0CBDFD2F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676520" y="195588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119376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6080" y="1460520"/>
          <a:ext cx="9042480" cy="4527360"/>
        </p:xfrm>
        <a:graphic>
          <a:graphicData uri="http://schemas.openxmlformats.org/drawingml/2006/table">
            <a:tbl>
              <a:tblPr/>
              <a:tblGrid>
                <a:gridCol w="1573200"/>
                <a:gridCol w="1081080"/>
                <a:gridCol w="1222200"/>
                <a:gridCol w="1289160"/>
                <a:gridCol w="1292400"/>
                <a:gridCol w="1523880"/>
                <a:gridCol w="1060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Arrangement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rade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tart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Exchange Rat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Exchange Rat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p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+0…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/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or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as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wd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/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 or Sell Sw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แร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หลั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แร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หลั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ross Currency Sw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แร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แร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แร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/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แร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หลั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าหลั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/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1692360" y="4365720"/>
            <a:ext cx="73080" cy="1366920"/>
          </a:xfrm>
          <a:custGeom>
            <a:avLst/>
            <a:gdLst>
              <a:gd name="textAreaLeft" fmla="*/ 0 w 73080"/>
              <a:gd name="textAreaRight" fmla="*/ 26280 w 730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24560" y="466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29840" y="476280"/>
            <a:ext cx="79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BFC-CCA6-4721-BA60-6C7DD5C4A4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676520" y="195588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119376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76320" y="1066680"/>
          <a:ext cx="8970840" cy="5316480"/>
        </p:xfrm>
        <a:graphic>
          <a:graphicData uri="http://schemas.openxmlformats.org/drawingml/2006/table">
            <a:tbl>
              <a:tblPr/>
              <a:tblGrid>
                <a:gridCol w="2869920"/>
                <a:gridCol w="1440000"/>
                <a:gridCol w="2422440"/>
                <a:gridCol w="2238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Cross Currency Sw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ารส่งม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ัวอย่า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หมายเหต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Initial Buy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ไม่ต้องรายงา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Initial Sell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inal Buy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_type=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inal Sell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Initial Buy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_type=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Initial Sell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inal Buy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_type=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inal Sell Currency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4624560" y="466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29840" y="476280"/>
            <a:ext cx="79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240-7E3A-4F05-9EA6-36D06E395A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676520" y="195588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19376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6080" y="1460520"/>
          <a:ext cx="9042480" cy="3213000"/>
        </p:xfrm>
        <a:graphic>
          <a:graphicData uri="http://schemas.openxmlformats.org/drawingml/2006/table">
            <a:tbl>
              <a:tblPr/>
              <a:tblGrid>
                <a:gridCol w="1573200"/>
                <a:gridCol w="1081080"/>
                <a:gridCol w="1222200"/>
                <a:gridCol w="1289160"/>
                <a:gridCol w="1292400"/>
                <a:gridCol w="1523880"/>
                <a:gridCol w="1060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Arrangement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rade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tart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Exchange Rat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Exchange Rat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ell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 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ell 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u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มจริ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/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4624560" y="466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29840" y="476280"/>
            <a:ext cx="79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1AD-6BB4-4DF6-BDB7-3FE257A846B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676520" y="195588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1193760"/>
            <a:ext cx="74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6080" y="1828800"/>
          <a:ext cx="9037440" cy="1846440"/>
        </p:xfrm>
        <a:graphic>
          <a:graphicData uri="http://schemas.openxmlformats.org/drawingml/2006/table">
            <a:tbl>
              <a:tblPr/>
              <a:tblGrid>
                <a:gridCol w="936720"/>
                <a:gridCol w="1141200"/>
                <a:gridCol w="1152720"/>
                <a:gridCol w="1150920"/>
                <a:gridCol w="1081080"/>
                <a:gridCol w="1150920"/>
                <a:gridCol w="1225440"/>
                <a:gridCol w="11984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I AR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rade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tart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Maturity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Exchange Rat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Exchange Rat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Related FI AR 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AR Rema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WD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7-04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7-0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7-05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WD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7-05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7-05-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7-06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5.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WD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Roll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"/>
          <p:cNvSpPr/>
          <p:nvPr/>
        </p:nvSpPr>
        <p:spPr>
          <a:xfrm>
            <a:off x="4624560" y="466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29840" y="476280"/>
            <a:ext cx="79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76360" y="422100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Rollover/Unwind/Cancel by Replacing New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000-842F-421F-A892-B99DADFA5D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561-3F5E-43F3-99D0-46FC8CA4085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187280" y="40464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1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M US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82520" y="1498680"/>
          <a:ext cx="8785440" cy="2604960"/>
        </p:xfrm>
        <a:graphic>
          <a:graphicData uri="http://schemas.openxmlformats.org/drawingml/2006/table">
            <a:tbl>
              <a:tblPr/>
              <a:tblGrid>
                <a:gridCol w="3021120"/>
                <a:gridCol w="576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rganization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หัสสถาบันการเงินผู้จัดส่งข้อมู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ta Set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วันที่ของชุดข้อมู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Arrangement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ประเภทธุรกร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Leg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Buy/S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 Equivalen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งินเทียบเท่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U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985-ECA5-4D1C-A2D5-E3642311C3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CF8-7E8C-496F-AD00-37CE9DF349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395280" y="1341360"/>
            <a:ext cx="7848720" cy="4985280"/>
            <a:chOff x="395280" y="1341360"/>
            <a:chExt cx="7848720" cy="4985280"/>
          </a:xfrm>
        </p:grpSpPr>
        <p:sp>
          <p:nvSpPr>
            <p:cNvPr id="514" name=""/>
            <p:cNvSpPr/>
            <p:nvPr/>
          </p:nvSpPr>
          <p:spPr>
            <a:xfrm>
              <a:off x="950760" y="205092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5280" y="1341360"/>
              <a:ext cx="4800600" cy="405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Beginning Balance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XX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New Buy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New Sell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et Change in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Cordia New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 Error transac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ther transac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rial Unicode MS"/>
                </a:rPr>
                <a:t>ฐานะเงินตราต่างประเทศ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DS_FTS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     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XX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 Unicode MS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ption Notional Amount                               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ption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Delt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nding Balance 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Cash Position Amount</a:t>
              </a: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                                                  XX</a:t>
              </a:r>
              <a:r>
                <a:rPr b="1" lang="en-US" sz="1800" spc="-1" strike="noStrike">
                  <a:solidFill>
                    <a:srgbClr val="0000ff"/>
                  </a:solidFill>
                  <a:latin typeface="Browallia New"/>
                  <a:ea typeface="Browallia New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Browallia New"/>
                  <a:ea typeface="Browallia New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92720" y="3573360"/>
              <a:ext cx="1447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80320" y="342900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ก่อน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8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5280" y="5516640"/>
              <a:ext cx="47242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Transaction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ตั้งแต่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1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ล้าน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USD (FXM)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ของ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Se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48360" y="5734080"/>
              <a:ext cx="1447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88000" y="5157720"/>
              <a:ext cx="1656000" cy="116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2.00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5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br>
                <a:rPr sz="1600"/>
              </a:b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7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ส่งได้ทุกช่วงเวล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907600" y="40464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77320" y="1052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rdia New"/>
                <a:ea typeface="Cordia New"/>
              </a:rPr>
              <a:t>Se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716360" y="1413000"/>
            <a:ext cx="2298240" cy="307080"/>
            <a:chOff x="4716360" y="1413000"/>
            <a:chExt cx="2298240" cy="307080"/>
          </a:xfrm>
        </p:grpSpPr>
        <p:sp>
          <p:nvSpPr>
            <p:cNvPr id="524" name=""/>
            <p:cNvSpPr/>
            <p:nvPr/>
          </p:nvSpPr>
          <p:spPr>
            <a:xfrm>
              <a:off x="4716360" y="15843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91640" y="1413000"/>
              <a:ext cx="172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Cordia New"/>
                </a:rPr>
                <a:t>NY Closing Aug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8AF-1F47-41C8-8ECD-E888A000769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907600" y="40464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95280" y="1125360"/>
            <a:ext cx="8137440" cy="5533200"/>
            <a:chOff x="395280" y="1125360"/>
            <a:chExt cx="8137440" cy="5533200"/>
          </a:xfrm>
        </p:grpSpPr>
        <p:sp>
          <p:nvSpPr>
            <p:cNvPr id="528" name=""/>
            <p:cNvSpPr/>
            <p:nvPr/>
          </p:nvSpPr>
          <p:spPr>
            <a:xfrm>
              <a:off x="950760" y="205092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24360" y="3213000"/>
              <a:ext cx="11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00120" y="2997360"/>
              <a:ext cx="15066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ส่งข้อมูล </a:t>
              </a: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Sep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ก่อน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8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600" y="5029200"/>
              <a:ext cx="4724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Transaction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ตั้งแต่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1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ล้าน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USD (FXM) Se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78400" y="6289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2760" y="5456160"/>
              <a:ext cx="4724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Summary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น้อยกว่า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1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ล้าน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USD (FXU) Se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9640" y="6175440"/>
              <a:ext cx="47246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Transaction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ตั้งแต่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1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ล้าน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USD (FXM) Se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35640" y="1125360"/>
              <a:ext cx="146160" cy="4535640"/>
            </a:xfrm>
            <a:custGeom>
              <a:avLst/>
              <a:gdLst>
                <a:gd name="textAreaLeft" fmla="*/ 0 w 146160"/>
                <a:gd name="textAreaRight" fmla="*/ 52560 w 146160"/>
                <a:gd name="textAreaTop" fmla="*/ 118080 h 4535640"/>
                <a:gd name="textAreaBottom" fmla="*/ 4417560 h 453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5280" y="1125360"/>
              <a:ext cx="4800600" cy="405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Beginning Balance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XX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New Buy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X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New Sell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et Change in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Cordia New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 Error transac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      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ther transac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rial Unicode MS"/>
                </a:rPr>
                <a:t>ฐานะเงินตราต่างประเทศ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DS_FTS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     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XX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 Unicode MS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ption Notional Amount                              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ption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Delt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nding Balance 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Cash Position Amount</a:t>
              </a: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                                                  XX</a:t>
              </a:r>
              <a:r>
                <a:rPr b="1" lang="en-US" sz="1800" spc="-1" strike="noStrike">
                  <a:solidFill>
                    <a:srgbClr val="0000ff"/>
                  </a:solidFill>
                  <a:latin typeface="Browallia New"/>
                  <a:ea typeface="Browallia New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Browallia New"/>
                  <a:ea typeface="Browallia New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77080" y="5489640"/>
              <a:ext cx="1655640" cy="116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2.00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5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br>
                <a:rPr sz="1600"/>
              </a:b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7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ส่งได้ทุกช่วงเวล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8079120" y="1052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rdia New"/>
                <a:ea typeface="Cordia New"/>
              </a:rPr>
              <a:t>Sep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643280" y="1170000"/>
            <a:ext cx="2325960" cy="307080"/>
            <a:chOff x="4643280" y="1170000"/>
            <a:chExt cx="2325960" cy="307080"/>
          </a:xfrm>
        </p:grpSpPr>
        <p:sp>
          <p:nvSpPr>
            <p:cNvPr id="540" name=""/>
            <p:cNvSpPr/>
            <p:nvPr/>
          </p:nvSpPr>
          <p:spPr>
            <a:xfrm>
              <a:off x="4643280" y="13413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95880" y="1170000"/>
              <a:ext cx="177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Cordia New"/>
                </a:rPr>
                <a:t>NY Closing Aug 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716360" y="2681280"/>
            <a:ext cx="2690640" cy="458640"/>
            <a:chOff x="4716360" y="2681280"/>
            <a:chExt cx="2690640" cy="458640"/>
          </a:xfrm>
        </p:grpSpPr>
        <p:sp>
          <p:nvSpPr>
            <p:cNvPr id="543" name=""/>
            <p:cNvSpPr/>
            <p:nvPr/>
          </p:nvSpPr>
          <p:spPr>
            <a:xfrm flipV="1">
              <a:off x="4716360" y="2852640"/>
              <a:ext cx="115236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51000" y="268128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Cordia New"/>
                </a:rPr>
                <a:t>NY Closing Se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E50-8B86-4F52-9638-7A88C7DC3F0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41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เภทข้อมูลมี </a:t>
            </a:r>
            <a:r>
              <a:rPr b="1" lang="th-TH" sz="6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 </a:t>
            </a:r>
            <a:r>
              <a:rPr b="1" lang="th-TH" sz="6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เภ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000" y="254952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600" spc="-1" strike="noStrike">
                <a:solidFill>
                  <a:srgbClr val="3333cc"/>
                </a:solidFill>
                <a:latin typeface="Cordia New"/>
                <a:ea typeface="Cordia New"/>
              </a:rPr>
              <a:t>DF_FX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การซื้อขายเงินตราต่างประเทศตั้งแต่ </a:t>
            </a:r>
            <a:r>
              <a:rPr b="1" lang="th-TH" sz="36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en-US" sz="3600" spc="-1" strike="noStrike">
                <a:solidFill>
                  <a:srgbClr val="3333cc"/>
                </a:solidFill>
                <a:latin typeface="Cordia New"/>
                <a:ea typeface="Cordia New"/>
              </a:rPr>
              <a:t>M USD DF_FX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 </a:t>
            </a:r>
            <a:r>
              <a:rPr b="1" lang="th-TH" sz="36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en-US" sz="3600" spc="-1" strike="noStrike">
                <a:solidFill>
                  <a:srgbClr val="3333cc"/>
                </a:solidFill>
                <a:latin typeface="Cordia New"/>
                <a:ea typeface="Cordia New"/>
              </a:rPr>
              <a:t>M USD DF_FX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93600" y="404640"/>
            <a:ext cx="62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455-FF20-46C1-84AF-61294309A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907600" y="40464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95280" y="1125360"/>
            <a:ext cx="8137440" cy="5533200"/>
            <a:chOff x="395280" y="1125360"/>
            <a:chExt cx="8137440" cy="5533200"/>
          </a:xfrm>
        </p:grpSpPr>
        <p:sp>
          <p:nvSpPr>
            <p:cNvPr id="547" name=""/>
            <p:cNvSpPr/>
            <p:nvPr/>
          </p:nvSpPr>
          <p:spPr>
            <a:xfrm>
              <a:off x="950760" y="205092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24360" y="3213000"/>
              <a:ext cx="11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00120" y="2997360"/>
              <a:ext cx="15066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ส่งข้อมูล </a:t>
              </a: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Sep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ก่อน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8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1600" y="5029200"/>
              <a:ext cx="4724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Transaction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ตั้งแต่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1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ล้าน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USD (FXM) Se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8400" y="6289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2760" y="5456160"/>
              <a:ext cx="4724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Summary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น้อยกว่า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1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ล้าน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USD (FXU) Se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9640" y="6175440"/>
              <a:ext cx="47246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Transaction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ตั้งแต่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1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ngsana New"/>
                </a:rPr>
                <a:t>ล้าน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ngsana New"/>
                </a:rPr>
                <a:t>USD (FXM) Sep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35640" y="1125360"/>
              <a:ext cx="146160" cy="4535640"/>
            </a:xfrm>
            <a:custGeom>
              <a:avLst/>
              <a:gdLst>
                <a:gd name="textAreaLeft" fmla="*/ 0 w 146160"/>
                <a:gd name="textAreaRight" fmla="*/ 52560 w 146160"/>
                <a:gd name="textAreaTop" fmla="*/ 118080 h 4535640"/>
                <a:gd name="textAreaBottom" fmla="*/ 4417560 h 453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5280" y="1125360"/>
              <a:ext cx="4800600" cy="405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Beginning Balance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XX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New Buy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X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New Sell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et Change in Contract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Cordia New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 Error transac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      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ther transac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cs typeface="Arial Unicode MS"/>
                </a:rPr>
                <a:t>ฐานะเงินตราต่างประเทศ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DS_FTS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      </a:t>
              </a:r>
              <a:r>
                <a:rPr b="1" lang="th-TH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  XX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 Unicode MS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ption Notional Amount                              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ption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ordia New"/>
                </a:rPr>
                <a:t>Delt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mou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nding Balance 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Cash Position Amount</a:t>
              </a: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	</a:t>
              </a:r>
              <a:r>
                <a:rPr b="1" lang="en-US" sz="1800" spc="-1" strike="noStrike">
                  <a:solidFill>
                    <a:srgbClr val="ff3300"/>
                  </a:solidFill>
                  <a:latin typeface="Browallia New"/>
                  <a:ea typeface="Browallia New"/>
                </a:rPr>
                <a:t>                                                  XX</a:t>
              </a:r>
              <a:r>
                <a:rPr b="1" lang="en-US" sz="1800" spc="-1" strike="noStrike">
                  <a:solidFill>
                    <a:srgbClr val="0000ff"/>
                  </a:solidFill>
                  <a:latin typeface="Browallia New"/>
                  <a:ea typeface="Browallia New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Browallia New"/>
                  <a:ea typeface="Browallia New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77080" y="5489640"/>
              <a:ext cx="1655640" cy="116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2.00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5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br>
                <a:rPr sz="1600"/>
              </a:b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17.30 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น</a:t>
              </a: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 u="sng">
                  <a:solidFill>
                    <a:srgbClr val="0000ff"/>
                  </a:solidFill>
                  <a:uFillTx/>
                  <a:latin typeface="Arial"/>
                  <a:cs typeface="Arial Unicode MS"/>
                </a:rPr>
                <a:t>ส่งได้ทุกช่วงเวล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8077320" y="1052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rdia New"/>
                <a:ea typeface="Cordia New"/>
              </a:rPr>
              <a:t>Sep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643280" y="1170000"/>
            <a:ext cx="2269080" cy="307080"/>
            <a:chOff x="4643280" y="1170000"/>
            <a:chExt cx="2269080" cy="307080"/>
          </a:xfrm>
        </p:grpSpPr>
        <p:sp>
          <p:nvSpPr>
            <p:cNvPr id="559" name=""/>
            <p:cNvSpPr/>
            <p:nvPr/>
          </p:nvSpPr>
          <p:spPr>
            <a:xfrm>
              <a:off x="4643280" y="13413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56360" y="117000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Cordia New"/>
                </a:rPr>
                <a:t>NY Closing Se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716360" y="2681280"/>
            <a:ext cx="2690640" cy="458640"/>
            <a:chOff x="4716360" y="2681280"/>
            <a:chExt cx="2690640" cy="458640"/>
          </a:xfrm>
        </p:grpSpPr>
        <p:sp>
          <p:nvSpPr>
            <p:cNvPr id="562" name=""/>
            <p:cNvSpPr/>
            <p:nvPr/>
          </p:nvSpPr>
          <p:spPr>
            <a:xfrm flipV="1">
              <a:off x="4716360" y="2852640"/>
              <a:ext cx="115236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51000" y="268128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Cordia New"/>
                </a:rPr>
                <a:t>NY Closing Se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A30-741D-4A17-899F-617D814E9D1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249-F4F5-47C5-AC9E-4977034CC4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1052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กระทบต่ออัตราแลกเปลี่ย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-1893600" y="2179800"/>
            <a:ext cx="1290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3333cc"/>
                </a:solidFill>
                <a:latin typeface="Cordia New"/>
                <a:cs typeface="Cordia New"/>
              </a:rPr>
              <a:t>อัตราแลกเปลี่ยนที่มีผลต่อ </a:t>
            </a:r>
            <a:r>
              <a:rPr b="1" lang="en-US" sz="3000" spc="-1" strike="noStrike">
                <a:solidFill>
                  <a:srgbClr val="3333cc"/>
                </a:solidFill>
                <a:latin typeface="Cordia New"/>
                <a:ea typeface="Cordia New"/>
              </a:rPr>
              <a:t>Data File</a:t>
            </a:r>
            <a:r>
              <a:rPr b="1" lang="th-TH" sz="30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r>
              <a:rPr b="1" lang="th-TH" sz="30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เร็วการซื้อขายเงินตราต่างประเทศ คื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2997360"/>
            <a:ext cx="776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Reference Rate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คืออัตราแลกเปลี่ยนเทียบค่า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USD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กับบา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 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ซึ่งจะได้ข้อมูลจากตารางที่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6 (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เดิม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)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64000" y="3429000"/>
          <a:ext cx="731880" cy="66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3429000"/>
                    <a:ext cx="7318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-1297440" y="4437000"/>
            <a:ext cx="1182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2.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	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อัตราแลกเปลี่ยนดอลลาร์สรอ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ต่อ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หน่วย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516720" y="4941720"/>
          <a:ext cx="731880" cy="6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941720"/>
                    <a:ext cx="73188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5E4-E083-4AC2-9E85-E5581FAB99C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76480"/>
            <a:ext cx="946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ประเภทข้อมูลเร็ว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ข้อมูลฐานะเงินตราต่างประเทศ </a:t>
            </a: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นิยามฐานะเงินตรา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สรุ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การซื้อขายเงินตราต่างประเทศ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M U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DF_FX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หลักเกณฑ์การรายงานแต่ละประเภทการซื้อ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ข้อมูลสรุปการซื้อขายเงินตราต่างประเทศต่ำกว่า</a:t>
            </a:r>
            <a:r>
              <a:rPr b="1" lang="en-US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1 M USD DF_F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ลำดับ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2b2b2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b2b2b2"/>
                </a:solidFill>
                <a:latin typeface="Cordia New"/>
                <a:cs typeface="Cordia New"/>
              </a:rPr>
              <a:t>ผลกระทบต่ออัตราแลกเปลี่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7040" y="404640"/>
            <a:ext cx="32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เนื้อหา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31C-3554-4022-9444-E4558EB1DD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04360" y="476280"/>
            <a:ext cx="67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920" y="1052640"/>
            <a:ext cx="6815160" cy="5713200"/>
            <a:chOff x="34920" y="1052640"/>
            <a:chExt cx="6815160" cy="5713200"/>
          </a:xfrm>
        </p:grpSpPr>
        <p:sp>
          <p:nvSpPr>
            <p:cNvPr id="112" name=""/>
            <p:cNvSpPr/>
            <p:nvPr/>
          </p:nvSpPr>
          <p:spPr>
            <a:xfrm>
              <a:off x="34920" y="1989000"/>
              <a:ext cx="3600360" cy="453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280" y="256536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3300"/>
                  </a:solidFill>
                  <a:latin typeface="Cordia New"/>
                  <a:cs typeface="Cordia New"/>
                </a:rPr>
                <a:t>ธุรกิจทันท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7280" y="3933720"/>
              <a:ext cx="2087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b2b2b2"/>
                  </a:solidFill>
                  <a:latin typeface="Cordia New"/>
                  <a:cs typeface="Cordia New"/>
                </a:rPr>
                <a:t>กู้</a:t>
              </a:r>
              <a:r>
                <a:rPr b="1" lang="th-TH" sz="32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/</a:t>
              </a:r>
              <a:r>
                <a:rPr b="1" lang="th-TH" sz="3200" spc="-1" strike="noStrike">
                  <a:solidFill>
                    <a:srgbClr val="b2b2b2"/>
                  </a:solidFill>
                  <a:latin typeface="Cordia New"/>
                  <a:cs typeface="Cordia New"/>
                </a:rPr>
                <a:t>ให้กู้</a:t>
              </a:r>
              <a:r>
                <a:rPr b="1" lang="th-TH" sz="3200" spc="-1" strike="noStrike">
                  <a:solidFill>
                    <a:srgbClr val="b2b2b2"/>
                  </a:solidFill>
                  <a:latin typeface="Cordia New"/>
                  <a:ea typeface="Cordia New"/>
                </a:rPr>
                <a:t>/</a:t>
              </a:r>
              <a:r>
                <a:rPr b="1" lang="th-TH" sz="3200" spc="-1" strike="noStrike">
                  <a:solidFill>
                    <a:srgbClr val="b2b2b2"/>
                  </a:solidFill>
                  <a:latin typeface="Cordia New"/>
                  <a:cs typeface="Cordia New"/>
                </a:rPr>
                <a:t>รับฝา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1440" y="126828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DS_F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7280" y="5229360"/>
              <a:ext cx="208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3300"/>
                  </a:solidFill>
                  <a:latin typeface="Cordia New"/>
                  <a:cs typeface="Cordia New"/>
                </a:rPr>
                <a:t>ธุรกิจล่วงหน้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4600" y="1052640"/>
              <a:ext cx="2232360" cy="72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แลกกับบา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0800" y="1819440"/>
              <a:ext cx="2232000" cy="72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รับ</a:t>
              </a: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ea typeface="Cordia New"/>
                </a:rPr>
                <a:t>-</a:t>
              </a: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จ่า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0800" y="2592360"/>
              <a:ext cx="2232000" cy="72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แลกต่างสกุ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627280" y="1407600"/>
              <a:ext cx="1943280" cy="137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27280" y="2278080"/>
              <a:ext cx="1963800" cy="50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27280" y="2781360"/>
              <a:ext cx="19432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02240" y="4368960"/>
              <a:ext cx="2232000" cy="72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แลกกับบา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0560" y="5137200"/>
              <a:ext cx="2232000" cy="72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แลกต่างสกุ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843280" y="4773600"/>
              <a:ext cx="181944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43280" y="5516640"/>
              <a:ext cx="172728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3680" y="3357720"/>
              <a:ext cx="2246400" cy="931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ฐานะทันทีสุทธ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ea typeface="Cordia New"/>
                </a:rPr>
                <a:t>(129018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8920" y="2781360"/>
              <a:ext cx="1871640" cy="10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4560" y="5516640"/>
              <a:ext cx="158436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7840" y="5932440"/>
              <a:ext cx="2216160" cy="8334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cs typeface="Cordia New"/>
                </a:rPr>
                <a:t>ฐานะล่วงหน้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Cordia New"/>
                  <a:ea typeface="Cordia New"/>
                </a:rPr>
                <a:t>(129062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164360" y="3716280"/>
            <a:ext cx="0" cy="26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37162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6381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01336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29080" y="4365720"/>
            <a:ext cx="22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ฐานะเงินตร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Cordia New"/>
                <a:cs typeface="Cordia New"/>
              </a:rPr>
              <a:t>ต่างประ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97A-9A1C-488B-8DB4-6001383396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5892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นิยามฐานะเงินตราต่าง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DF_FX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0760" y="2050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25360"/>
            <a:ext cx="896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                   </a:t>
            </a:r>
            <a:r>
              <a:rPr b="0" lang="th-TH" sz="2200" spc="-1" strike="noStrike">
                <a:solidFill>
                  <a:srgbClr val="0000ff"/>
                </a:solidFill>
                <a:latin typeface="Angsana New"/>
                <a:cs typeface="Angsana New"/>
              </a:rPr>
              <a:t>รวมทุกสกุลเทียบเท่า 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USD</a:t>
            </a: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Beginning Balance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XXX   (DS_FTS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Spot + FWD 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ณ ต้นวัน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+ New Buy Contract Amount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XX   (New+Rollover+Unwind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-  New Sell Contract Amount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Net Change in Contract Amount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XX   (No delivery+Cancel+Rollover+Cancel by Replacing with New Con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Error transaction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Other transaction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       X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(P/L + Conversion +Adjust R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ฐานะเงินตราต่างประเทศ       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XXX  (DS_FTS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Spot + FWD </a:t>
            </a:r>
            <a:r>
              <a:rPr b="0" lang="th-TH" sz="2200" spc="-1" strike="noStrike">
                <a:solidFill>
                  <a:srgbClr val="000000"/>
                </a:solidFill>
                <a:latin typeface="Angsana New"/>
                <a:cs typeface="Angsana New"/>
              </a:rPr>
              <a:t>ณ สิ้นวัน</a:t>
            </a:r>
            <a:r>
              <a:rPr b="0" lang="en-US" sz="2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Option Notional Amount           X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Option Delta  Amount     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     X    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       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Ending Balance         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XXX 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ngsana New"/>
                <a:ea typeface="Angsana New"/>
              </a:rPr>
              <a:t>+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Cash Position Amount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   XX </a:t>
            </a:r>
            <a:r>
              <a:rPr b="0" lang="en-US" sz="2200" spc="-1" strike="noStrike">
                <a:solidFill>
                  <a:srgbClr val="ccccff"/>
                </a:solidFill>
                <a:latin typeface="Angsana New"/>
                <a:ea typeface="Angsana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D1A-4362-4DFC-BED2-8392C25664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27640" y="1052640"/>
            <a:ext cx="0" cy="580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93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06680" y="1052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rdia New"/>
                <a:ea typeface="Cordia New"/>
              </a:rPr>
              <a:t>Day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42440" y="40464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dia New"/>
                <a:ea typeface="Cordia New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4320" y="1557360"/>
            <a:ext cx="4163400" cy="7075440"/>
            <a:chOff x="-4320" y="1557360"/>
            <a:chExt cx="4163400" cy="7075440"/>
          </a:xfrm>
        </p:grpSpPr>
        <p:sp>
          <p:nvSpPr>
            <p:cNvPr id="144" name=""/>
            <p:cNvSpPr/>
            <p:nvPr/>
          </p:nvSpPr>
          <p:spPr>
            <a:xfrm>
              <a:off x="919080" y="2781360"/>
              <a:ext cx="1728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6160" y="4149720"/>
              <a:ext cx="28800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Buy Contract      +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Sell Contract       -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t Change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Other Transaction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ฐานะ                         </a:t>
              </a: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9080" y="206064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02000" y="205272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69720" y="155736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02600" y="155736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9440" y="206064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6920" y="263700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88960" y="298764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5400" y="298764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+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5600" y="3514680"/>
              <a:ext cx="18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4400" y="3429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1440" y="4005360"/>
              <a:ext cx="18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4320" y="3068640"/>
              <a:ext cx="160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ทำสัญญาใหม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467600" y="1125360"/>
            <a:ext cx="4228560" cy="8089200"/>
            <a:chOff x="4467600" y="1125360"/>
            <a:chExt cx="4228560" cy="8089200"/>
          </a:xfrm>
        </p:grpSpPr>
        <p:sp>
          <p:nvSpPr>
            <p:cNvPr id="159" name=""/>
            <p:cNvSpPr/>
            <p:nvPr/>
          </p:nvSpPr>
          <p:spPr>
            <a:xfrm>
              <a:off x="5806800" y="112536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u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39680" y="112536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56160" y="1628640"/>
              <a:ext cx="32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39080" y="1620720"/>
              <a:ext cx="0" cy="26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6520" y="1628640"/>
              <a:ext cx="10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Sp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69640" y="234936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Fw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0840" y="2840040"/>
              <a:ext cx="75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27280" y="2840040"/>
              <a:ext cx="75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32680" y="3798720"/>
              <a:ext cx="18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31480" y="371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8520" y="4289400"/>
              <a:ext cx="18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75680" y="1628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6600" y="1628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19720" y="212868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6600" y="2060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7640" y="249228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0320" y="3141720"/>
              <a:ext cx="420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8080" y="313056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8720" y="4365720"/>
              <a:ext cx="287964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Beginning Balance        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Buy Contract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w Sell Contract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Net Change 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Other Transaction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ฐานะ                         </a:t>
              </a:r>
              <a:r>
                <a:rPr b="1" lang="th-TH" sz="24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67600" y="3213000"/>
              <a:ext cx="201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ปฏิบัติตามสัญญ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88600" y="2852640"/>
              <a:ext cx="77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ยกม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3E5-2BAE-4022-A53F-C5030D33A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2:46:58Z</dcterms:created>
  <dc:creator>Information Technology</dc:creator>
  <dc:description/>
  <dc:language>en-US</dc:language>
  <cp:lastModifiedBy>Information Technology</cp:lastModifiedBy>
  <dcterms:modified xsi:type="dcterms:W3CDTF">2007-05-29T09:34:21Z</dcterms:modified>
  <cp:revision>300</cp:revision>
  <dc:subject/>
  <dc:title>PowerPoint Presentation</dc:title>
</cp:coreProperties>
</file>